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9.wmf" ContentType="image/x-wmf"/>
  <Override PartName="/ppt/media/image50.png" ContentType="image/png"/>
  <Override PartName="/ppt/media/image48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12.png" ContentType="image/png"/>
  <Override PartName="/ppt/media/image37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8.png" ContentType="image/png"/>
  <Override PartName="/ppt/media/image76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4.png" ContentType="image/png"/>
  <Override PartName="/ppt/media/image73.png" ContentType="image/png"/>
  <Override PartName="/ppt/media/image87.png" ContentType="image/png"/>
  <Override PartName="/ppt/media/image72.wmf" ContentType="image/x-wmf"/>
  <Override PartName="/ppt/media/image69.png" ContentType="image/png"/>
  <Override PartName="/ppt/media/image32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.png" ContentType="image/png"/>
  <Override PartName="/ppt/media/image19.png" ContentType="image/png"/>
  <Override PartName="/ppt/media/image8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46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10800" y="4680"/>
            <a:ext cx="290340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5"/>
          </p:nvPr>
        </p:nvSpPr>
        <p:spPr>
          <a:xfrm>
            <a:off x="3830400" y="4680"/>
            <a:ext cx="290196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53640" y="769680"/>
            <a:ext cx="4832280" cy="362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27000" y="4704840"/>
            <a:ext cx="4888080" cy="4395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6"/>
          </p:nvPr>
        </p:nvSpPr>
        <p:spPr>
          <a:xfrm>
            <a:off x="10800" y="9405720"/>
            <a:ext cx="290340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7"/>
          </p:nvPr>
        </p:nvSpPr>
        <p:spPr>
          <a:xfrm>
            <a:off x="3830400" y="9405720"/>
            <a:ext cx="290196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484590D-6465-40E0-9160-7E7D4DBA5F7C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30760" y="9406080"/>
            <a:ext cx="2901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2AB2CAE-F368-4636-8340-518269C8B7F0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54000" y="770040"/>
            <a:ext cx="4832280" cy="36241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27000" y="4704840"/>
            <a:ext cx="4888080" cy="43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30760" y="9406080"/>
            <a:ext cx="2901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D0DDAF4-7EE7-451C-9D21-E97CA036687F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54000" y="770040"/>
            <a:ext cx="4832280" cy="362412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27000" y="4704840"/>
            <a:ext cx="4888080" cy="43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30760" y="9406080"/>
            <a:ext cx="2901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89B20B2-2425-4D89-8EA6-0718AF21BC5C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54000" y="770040"/>
            <a:ext cx="4832280" cy="362412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27000" y="4704840"/>
            <a:ext cx="4888080" cy="43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30760" y="9406080"/>
            <a:ext cx="2901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3A55B2B-28E5-491B-B611-DA29B09AA37D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54000" y="770040"/>
            <a:ext cx="4832280" cy="362412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27000" y="4704840"/>
            <a:ext cx="4888080" cy="43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30760" y="9406080"/>
            <a:ext cx="2901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760CB9C-274E-489F-9519-AA1C04DA7661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54000" y="770040"/>
            <a:ext cx="4832280" cy="362412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27000" y="4704840"/>
            <a:ext cx="4888080" cy="43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0BB45-A160-4C0C-BDD5-F7FFC987E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6320" y="4140000"/>
            <a:ext cx="77295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EB055-D8BF-43CB-A20D-766AF6883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320" y="414000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7040" y="414000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8012E-D003-4BAD-B848-DD9933F27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79920" y="198072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93160" y="198072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6320" y="414000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79920" y="414000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93160" y="414000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3617-D1CB-45E4-90F3-A16D44365D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875C3-D84C-4C1E-BB8E-1E50A222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1B0FD-47F1-4313-8033-65DCC2BD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F6340-0DF2-4167-8476-326139F1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0543E-9652-43DB-96A1-A51E8848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526C2-C913-4978-87E4-CEC1DC52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5904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E8289-F941-4EEA-93F4-556F1FC1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320" y="414000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00164-D2A5-47F8-A2D5-893E42EE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CA426-82A1-4643-8151-886CAC9EDC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7040" y="414000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1263A-DE49-449B-BDDE-8AD24870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4140000"/>
            <a:ext cx="77295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3B9EF-F098-4588-8891-FE1D3E1D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320" y="4140000"/>
            <a:ext cx="77295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BF82A-EBCD-4D20-946F-CEEA4698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320" y="414000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7040" y="414000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5B320-D9D1-4CF7-8155-63C201EF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79920" y="198072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93160" y="198072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320" y="414000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79920" y="414000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93160" y="414000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CF9DB-3F89-4958-AAA8-105D4298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81279-DA60-4024-8818-98A607932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F20FF-1D0F-453E-B9C2-E43A90C73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8CC5-6193-4897-90A7-66322D401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5904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D769D-EA8B-4D8A-9C10-E4C116E4D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6320" y="414000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34EFF-604B-4ED8-B7D7-CA1A80A57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7040" y="414000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31A24-BFED-44C3-A400-81ADD7B41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6320" y="4140000"/>
            <a:ext cx="77295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16445-C906-427F-B202-4702FF775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360" y="6470640"/>
            <a:ext cx="9143640" cy="387360"/>
            <a:chOff x="360" y="6470640"/>
            <a:chExt cx="9143640" cy="387360"/>
          </a:xfrm>
        </p:grpSpPr>
        <p:sp>
          <p:nvSpPr>
            <p:cNvPr id="1" name="Rectangle 2"/>
            <p:cNvSpPr/>
            <p:nvPr/>
          </p:nvSpPr>
          <p:spPr>
            <a:xfrm rot="5400000">
              <a:off x="4379760" y="2092680"/>
              <a:ext cx="386640" cy="9141840"/>
            </a:xfrm>
            <a:prstGeom prst="rect">
              <a:avLst/>
            </a:prstGeom>
            <a:gradFill rotWithShape="0">
              <a:gsLst>
                <a:gs pos="0">
                  <a:srgbClr val="00b7a5"/>
                </a:gs>
                <a:gs pos="100000">
                  <a:srgbClr val="00373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660033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 rot="5400000">
              <a:off x="4378320" y="2092320"/>
              <a:ext cx="387360" cy="914364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9143640"/>
                <a:gd name="textAreaBottom" fmla="*/ 9144000 h 9143640"/>
              </a:gdLst>
              <a:ahLst/>
              <a:rect l="textAreaLeft" t="textAreaTop" r="textAreaRight" b="textAreaBottom"/>
              <a:pathLst>
                <a:path w="449" h="4313">
                  <a:moveTo>
                    <a:pt x="0" y="0"/>
                  </a:moveTo>
                  <a:lnTo>
                    <a:pt x="0" y="4312"/>
                  </a:lnTo>
                  <a:lnTo>
                    <a:pt x="149" y="4312"/>
                  </a:lnTo>
                  <a:lnTo>
                    <a:pt x="149" y="0"/>
                  </a:lnTo>
                  <a:lnTo>
                    <a:pt x="299" y="0"/>
                  </a:lnTo>
                  <a:lnTo>
                    <a:pt x="299" y="4312"/>
                  </a:lnTo>
                  <a:lnTo>
                    <a:pt x="448" y="4312"/>
                  </a:lnTo>
                  <a:lnTo>
                    <a:pt x="448" y="0"/>
                  </a:lnTo>
                  <a:lnTo>
                    <a:pt x="448" y="149"/>
                  </a:lnTo>
                  <a:lnTo>
                    <a:pt x="0" y="149"/>
                  </a:lnTo>
                  <a:lnTo>
                    <a:pt x="0" y="297"/>
                  </a:lnTo>
                  <a:lnTo>
                    <a:pt x="448" y="297"/>
                  </a:lnTo>
                  <a:lnTo>
                    <a:pt x="448" y="446"/>
                  </a:lnTo>
                  <a:lnTo>
                    <a:pt x="0" y="446"/>
                  </a:lnTo>
                  <a:lnTo>
                    <a:pt x="0" y="595"/>
                  </a:lnTo>
                  <a:lnTo>
                    <a:pt x="448" y="595"/>
                  </a:lnTo>
                  <a:lnTo>
                    <a:pt x="448" y="743"/>
                  </a:lnTo>
                  <a:lnTo>
                    <a:pt x="0" y="743"/>
                  </a:lnTo>
                  <a:lnTo>
                    <a:pt x="0" y="892"/>
                  </a:lnTo>
                  <a:lnTo>
                    <a:pt x="448" y="892"/>
                  </a:lnTo>
                  <a:lnTo>
                    <a:pt x="448" y="1041"/>
                  </a:lnTo>
                  <a:lnTo>
                    <a:pt x="0" y="1041"/>
                  </a:lnTo>
                  <a:lnTo>
                    <a:pt x="0" y="1190"/>
                  </a:lnTo>
                  <a:lnTo>
                    <a:pt x="448" y="1190"/>
                  </a:lnTo>
                  <a:lnTo>
                    <a:pt x="448" y="1338"/>
                  </a:lnTo>
                  <a:lnTo>
                    <a:pt x="0" y="1338"/>
                  </a:lnTo>
                  <a:lnTo>
                    <a:pt x="0" y="1487"/>
                  </a:lnTo>
                  <a:lnTo>
                    <a:pt x="448" y="1487"/>
                  </a:lnTo>
                  <a:lnTo>
                    <a:pt x="448" y="1636"/>
                  </a:lnTo>
                  <a:lnTo>
                    <a:pt x="0" y="1636"/>
                  </a:lnTo>
                  <a:lnTo>
                    <a:pt x="0" y="1784"/>
                  </a:lnTo>
                  <a:lnTo>
                    <a:pt x="448" y="1784"/>
                  </a:lnTo>
                  <a:lnTo>
                    <a:pt x="448" y="1933"/>
                  </a:lnTo>
                  <a:lnTo>
                    <a:pt x="0" y="1933"/>
                  </a:lnTo>
                  <a:lnTo>
                    <a:pt x="0" y="2082"/>
                  </a:lnTo>
                  <a:lnTo>
                    <a:pt x="448" y="2082"/>
                  </a:lnTo>
                  <a:lnTo>
                    <a:pt x="448" y="2230"/>
                  </a:lnTo>
                  <a:lnTo>
                    <a:pt x="0" y="2230"/>
                  </a:lnTo>
                  <a:lnTo>
                    <a:pt x="0" y="2379"/>
                  </a:lnTo>
                  <a:lnTo>
                    <a:pt x="448" y="2379"/>
                  </a:lnTo>
                  <a:lnTo>
                    <a:pt x="448" y="2528"/>
                  </a:lnTo>
                  <a:lnTo>
                    <a:pt x="0" y="2528"/>
                  </a:lnTo>
                  <a:lnTo>
                    <a:pt x="0" y="2676"/>
                  </a:lnTo>
                  <a:lnTo>
                    <a:pt x="448" y="2676"/>
                  </a:lnTo>
                  <a:lnTo>
                    <a:pt x="448" y="2825"/>
                  </a:lnTo>
                  <a:lnTo>
                    <a:pt x="0" y="2825"/>
                  </a:lnTo>
                  <a:lnTo>
                    <a:pt x="0" y="2974"/>
                  </a:lnTo>
                  <a:lnTo>
                    <a:pt x="448" y="2974"/>
                  </a:lnTo>
                  <a:lnTo>
                    <a:pt x="448" y="3122"/>
                  </a:lnTo>
                  <a:lnTo>
                    <a:pt x="0" y="3122"/>
                  </a:lnTo>
                  <a:lnTo>
                    <a:pt x="0" y="3271"/>
                  </a:lnTo>
                  <a:lnTo>
                    <a:pt x="448" y="3271"/>
                  </a:lnTo>
                  <a:lnTo>
                    <a:pt x="448" y="3420"/>
                  </a:lnTo>
                  <a:lnTo>
                    <a:pt x="0" y="3420"/>
                  </a:lnTo>
                  <a:lnTo>
                    <a:pt x="0" y="3569"/>
                  </a:lnTo>
                  <a:lnTo>
                    <a:pt x="448" y="3569"/>
                  </a:lnTo>
                  <a:lnTo>
                    <a:pt x="448" y="3717"/>
                  </a:lnTo>
                  <a:lnTo>
                    <a:pt x="0" y="3717"/>
                  </a:lnTo>
                  <a:lnTo>
                    <a:pt x="0" y="3866"/>
                  </a:lnTo>
                  <a:lnTo>
                    <a:pt x="448" y="3866"/>
                  </a:lnTo>
                  <a:lnTo>
                    <a:pt x="448" y="4015"/>
                  </a:lnTo>
                  <a:lnTo>
                    <a:pt x="0" y="4015"/>
                  </a:lnTo>
                  <a:lnTo>
                    <a:pt x="0" y="4163"/>
                  </a:lnTo>
                  <a:lnTo>
                    <a:pt x="448" y="4163"/>
                  </a:lnTo>
                  <a:lnTo>
                    <a:pt x="448" y="4312"/>
                  </a:lnTo>
                  <a:lnTo>
                    <a:pt x="0" y="4312"/>
                  </a:lnTo>
                  <a:lnTo>
                    <a:pt x="0" y="4312"/>
                  </a:lnTo>
                  <a:lnTo>
                    <a:pt x="448" y="4312"/>
                  </a:lnTo>
                  <a:lnTo>
                    <a:pt x="448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  <a:effectLst>
              <a:outerShdw dist="17819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660033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6505560" y="100080"/>
            <a:ext cx="26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ing and debugging Electric</a:t>
            </a:r>
            <a:endParaRPr b="1" lang="en-US" sz="1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448480" y="649080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47F2-EBD3-43B8-93D5-0A3FE6FEB8C3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4"/>
          <p:cNvGrpSpPr/>
          <p:nvPr/>
        </p:nvGrpSpPr>
        <p:grpSpPr>
          <a:xfrm>
            <a:off x="0" y="11160"/>
            <a:ext cx="712800" cy="6846840"/>
            <a:chOff x="0" y="11160"/>
            <a:chExt cx="712800" cy="6846840"/>
          </a:xfrm>
        </p:grpSpPr>
        <p:sp>
          <p:nvSpPr>
            <p:cNvPr id="44" name="Rectangle 2"/>
            <p:cNvSpPr/>
            <p:nvPr/>
          </p:nvSpPr>
          <p:spPr>
            <a:xfrm>
              <a:off x="0" y="11160"/>
              <a:ext cx="711360" cy="6845400"/>
            </a:xfrm>
            <a:prstGeom prst="rect">
              <a:avLst/>
            </a:prstGeom>
            <a:gradFill rotWithShape="0">
              <a:gsLst>
                <a:gs pos="0">
                  <a:srgbClr val="00b7a5"/>
                </a:gs>
                <a:gs pos="100000">
                  <a:srgbClr val="00373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660033"/>
                </a:solidFill>
                <a:latin typeface="Arial"/>
              </a:endParaRPr>
            </a:p>
          </p:txBody>
        </p:sp>
        <p:sp>
          <p:nvSpPr>
            <p:cNvPr id="45" name="Freeform 3"/>
            <p:cNvSpPr/>
            <p:nvPr/>
          </p:nvSpPr>
          <p:spPr>
            <a:xfrm>
              <a:off x="0" y="11160"/>
              <a:ext cx="712800" cy="6846840"/>
            </a:xfrm>
            <a:custGeom>
              <a:avLst/>
              <a:gdLst>
                <a:gd name="textAreaLeft" fmla="*/ 0 w 712800"/>
                <a:gd name="textAreaRight" fmla="*/ 713160 w 712800"/>
                <a:gd name="textAreaTop" fmla="*/ 0 h 6846840"/>
                <a:gd name="textAreaBottom" fmla="*/ 6847200 h 6846840"/>
              </a:gdLst>
              <a:ahLst/>
              <a:rect l="textAreaLeft" t="textAreaTop" r="textAreaRight" b="textAreaBottom"/>
              <a:pathLst>
                <a:path w="449" h="4313">
                  <a:moveTo>
                    <a:pt x="0" y="0"/>
                  </a:moveTo>
                  <a:lnTo>
                    <a:pt x="0" y="4312"/>
                  </a:lnTo>
                  <a:lnTo>
                    <a:pt x="149" y="4312"/>
                  </a:lnTo>
                  <a:lnTo>
                    <a:pt x="149" y="0"/>
                  </a:lnTo>
                  <a:lnTo>
                    <a:pt x="299" y="0"/>
                  </a:lnTo>
                  <a:lnTo>
                    <a:pt x="299" y="4312"/>
                  </a:lnTo>
                  <a:lnTo>
                    <a:pt x="448" y="4312"/>
                  </a:lnTo>
                  <a:lnTo>
                    <a:pt x="448" y="0"/>
                  </a:lnTo>
                  <a:lnTo>
                    <a:pt x="448" y="149"/>
                  </a:lnTo>
                  <a:lnTo>
                    <a:pt x="0" y="149"/>
                  </a:lnTo>
                  <a:lnTo>
                    <a:pt x="0" y="297"/>
                  </a:lnTo>
                  <a:lnTo>
                    <a:pt x="448" y="297"/>
                  </a:lnTo>
                  <a:lnTo>
                    <a:pt x="448" y="446"/>
                  </a:lnTo>
                  <a:lnTo>
                    <a:pt x="0" y="446"/>
                  </a:lnTo>
                  <a:lnTo>
                    <a:pt x="0" y="595"/>
                  </a:lnTo>
                  <a:lnTo>
                    <a:pt x="448" y="595"/>
                  </a:lnTo>
                  <a:lnTo>
                    <a:pt x="448" y="743"/>
                  </a:lnTo>
                  <a:lnTo>
                    <a:pt x="0" y="743"/>
                  </a:lnTo>
                  <a:lnTo>
                    <a:pt x="0" y="892"/>
                  </a:lnTo>
                  <a:lnTo>
                    <a:pt x="448" y="892"/>
                  </a:lnTo>
                  <a:lnTo>
                    <a:pt x="448" y="1041"/>
                  </a:lnTo>
                  <a:lnTo>
                    <a:pt x="0" y="1041"/>
                  </a:lnTo>
                  <a:lnTo>
                    <a:pt x="0" y="1190"/>
                  </a:lnTo>
                  <a:lnTo>
                    <a:pt x="448" y="1190"/>
                  </a:lnTo>
                  <a:lnTo>
                    <a:pt x="448" y="1338"/>
                  </a:lnTo>
                  <a:lnTo>
                    <a:pt x="0" y="1338"/>
                  </a:lnTo>
                  <a:lnTo>
                    <a:pt x="0" y="1487"/>
                  </a:lnTo>
                  <a:lnTo>
                    <a:pt x="448" y="1487"/>
                  </a:lnTo>
                  <a:lnTo>
                    <a:pt x="448" y="1636"/>
                  </a:lnTo>
                  <a:lnTo>
                    <a:pt x="0" y="1636"/>
                  </a:lnTo>
                  <a:lnTo>
                    <a:pt x="0" y="1784"/>
                  </a:lnTo>
                  <a:lnTo>
                    <a:pt x="448" y="1784"/>
                  </a:lnTo>
                  <a:lnTo>
                    <a:pt x="448" y="1933"/>
                  </a:lnTo>
                  <a:lnTo>
                    <a:pt x="0" y="1933"/>
                  </a:lnTo>
                  <a:lnTo>
                    <a:pt x="0" y="2082"/>
                  </a:lnTo>
                  <a:lnTo>
                    <a:pt x="448" y="2082"/>
                  </a:lnTo>
                  <a:lnTo>
                    <a:pt x="448" y="2230"/>
                  </a:lnTo>
                  <a:lnTo>
                    <a:pt x="0" y="2230"/>
                  </a:lnTo>
                  <a:lnTo>
                    <a:pt x="0" y="2379"/>
                  </a:lnTo>
                  <a:lnTo>
                    <a:pt x="448" y="2379"/>
                  </a:lnTo>
                  <a:lnTo>
                    <a:pt x="448" y="2528"/>
                  </a:lnTo>
                  <a:lnTo>
                    <a:pt x="0" y="2528"/>
                  </a:lnTo>
                  <a:lnTo>
                    <a:pt x="0" y="2676"/>
                  </a:lnTo>
                  <a:lnTo>
                    <a:pt x="448" y="2676"/>
                  </a:lnTo>
                  <a:lnTo>
                    <a:pt x="448" y="2825"/>
                  </a:lnTo>
                  <a:lnTo>
                    <a:pt x="0" y="2825"/>
                  </a:lnTo>
                  <a:lnTo>
                    <a:pt x="0" y="2974"/>
                  </a:lnTo>
                  <a:lnTo>
                    <a:pt x="448" y="2974"/>
                  </a:lnTo>
                  <a:lnTo>
                    <a:pt x="448" y="3122"/>
                  </a:lnTo>
                  <a:lnTo>
                    <a:pt x="0" y="3122"/>
                  </a:lnTo>
                  <a:lnTo>
                    <a:pt x="0" y="3271"/>
                  </a:lnTo>
                  <a:lnTo>
                    <a:pt x="448" y="3271"/>
                  </a:lnTo>
                  <a:lnTo>
                    <a:pt x="448" y="3420"/>
                  </a:lnTo>
                  <a:lnTo>
                    <a:pt x="0" y="3420"/>
                  </a:lnTo>
                  <a:lnTo>
                    <a:pt x="0" y="3569"/>
                  </a:lnTo>
                  <a:lnTo>
                    <a:pt x="448" y="3569"/>
                  </a:lnTo>
                  <a:lnTo>
                    <a:pt x="448" y="3717"/>
                  </a:lnTo>
                  <a:lnTo>
                    <a:pt x="0" y="3717"/>
                  </a:lnTo>
                  <a:lnTo>
                    <a:pt x="0" y="3866"/>
                  </a:lnTo>
                  <a:lnTo>
                    <a:pt x="448" y="3866"/>
                  </a:lnTo>
                  <a:lnTo>
                    <a:pt x="448" y="4015"/>
                  </a:lnTo>
                  <a:lnTo>
                    <a:pt x="0" y="4015"/>
                  </a:lnTo>
                  <a:lnTo>
                    <a:pt x="0" y="4163"/>
                  </a:lnTo>
                  <a:lnTo>
                    <a:pt x="448" y="4163"/>
                  </a:lnTo>
                  <a:lnTo>
                    <a:pt x="448" y="4312"/>
                  </a:lnTo>
                  <a:lnTo>
                    <a:pt x="0" y="4312"/>
                  </a:lnTo>
                  <a:lnTo>
                    <a:pt x="0" y="4312"/>
                  </a:lnTo>
                  <a:lnTo>
                    <a:pt x="448" y="4312"/>
                  </a:lnTo>
                  <a:lnTo>
                    <a:pt x="448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  <a:effectLst>
              <a:outerShdw dist="17819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660033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D81D-1093-4BE1-BC99-BBC8BC4E0816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1" lang="en-US" sz="14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9.wmf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8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625A-9AEC-4BDE-A2CC-C8EA760FEE9C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539640" y="1125360"/>
            <a:ext cx="8136000" cy="1729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Building and debugging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GNU Electric version 8.08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by Java SDK &amp; Eclipse (Ganymede)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96" name="Group 60"/>
          <p:cNvGrpSpPr/>
          <p:nvPr/>
        </p:nvGrpSpPr>
        <p:grpSpPr>
          <a:xfrm>
            <a:off x="395280" y="3278160"/>
            <a:ext cx="8604360" cy="1313640"/>
            <a:chOff x="395280" y="3278160"/>
            <a:chExt cx="8604360" cy="1313640"/>
          </a:xfrm>
        </p:grpSpPr>
        <p:sp>
          <p:nvSpPr>
            <p:cNvPr id="97" name="Text Box 51"/>
            <p:cNvSpPr/>
            <p:nvPr/>
          </p:nvSpPr>
          <p:spPr>
            <a:xfrm>
              <a:off x="395280" y="3278160"/>
              <a:ext cx="86043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33"/>
                  </a:solidFill>
                  <a:latin typeface="Arial"/>
                </a:rPr>
                <a:t>by Kazzz (a Japanese engineer)</a:t>
              </a:r>
              <a:endParaRPr b="1" lang="en-US" sz="2000" spc="-1" strike="noStrike">
                <a:solidFill>
                  <a:srgbClr val="6600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33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660033"/>
                  </a:solidFill>
                  <a:latin typeface="Arial"/>
                </a:rPr>
                <a:t>May 11</a:t>
              </a:r>
              <a:r>
                <a:rPr b="0" lang="en-US" sz="2000" spc="-1" strike="noStrike" baseline="30000">
                  <a:solidFill>
                    <a:srgbClr val="660033"/>
                  </a:solidFill>
                  <a:latin typeface="Arial"/>
                </a:rPr>
                <a:t>th</a:t>
              </a:r>
              <a:r>
                <a:rPr b="0" lang="en-US" sz="2000" spc="-1" strike="noStrike">
                  <a:solidFill>
                    <a:srgbClr val="660033"/>
                  </a:solidFill>
                  <a:latin typeface="Arial"/>
                </a:rPr>
                <a:t>, 2009 (created the original)</a:t>
              </a:r>
              <a:endParaRPr b="1" lang="en-US" sz="2000" spc="-1" strike="noStrike">
                <a:solidFill>
                  <a:srgbClr val="6600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33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660033"/>
                  </a:solidFill>
                  <a:latin typeface="Arial"/>
                </a:rPr>
                <a:t>May 30</a:t>
              </a:r>
              <a:r>
                <a:rPr b="0" lang="en-US" sz="2000" spc="-1" strike="noStrike" baseline="30000">
                  <a:solidFill>
                    <a:srgbClr val="660033"/>
                  </a:solidFill>
                  <a:latin typeface="Arial"/>
                </a:rPr>
                <a:t>th</a:t>
              </a:r>
              <a:r>
                <a:rPr b="0" lang="en-US" sz="2000" spc="-1" strike="noStrike">
                  <a:solidFill>
                    <a:srgbClr val="660033"/>
                  </a:solidFill>
                  <a:latin typeface="Arial"/>
                </a:rPr>
                <a:t>, 2009 (modified for posting to                                                    )</a:t>
              </a:r>
              <a:endParaRPr b="1" lang="en-US" sz="2000" spc="-1" strike="noStrike">
                <a:solidFill>
                  <a:srgbClr val="6600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33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660033"/>
                  </a:solidFill>
                  <a:latin typeface="Arial"/>
                </a:rPr>
                <a:t>June 2</a:t>
              </a:r>
              <a:r>
                <a:rPr b="0" lang="en-US" sz="2000" spc="-1" strike="noStrike" baseline="30000">
                  <a:solidFill>
                    <a:srgbClr val="660033"/>
                  </a:solidFill>
                  <a:latin typeface="Arial"/>
                </a:rPr>
                <a:t>nd</a:t>
              </a:r>
              <a:r>
                <a:rPr b="0" lang="en-US" sz="2000" spc="-1" strike="noStrike">
                  <a:solidFill>
                    <a:srgbClr val="660033"/>
                  </a:solidFill>
                  <a:latin typeface="Arial"/>
                </a:rPr>
                <a:t>, 2009 (added information on Java 3D environment)</a:t>
              </a:r>
              <a:endParaRPr b="1" lang="en-US" sz="2000" spc="-1" strike="noStrike">
                <a:solidFill>
                  <a:srgbClr val="660033"/>
                </a:solidFill>
                <a:latin typeface="Arial"/>
              </a:endParaRPr>
            </a:p>
          </p:txBody>
        </p:sp>
        <p:pic>
          <p:nvPicPr>
            <p:cNvPr id="98" name="Picture 54" descr=""/>
            <p:cNvPicPr/>
            <p:nvPr/>
          </p:nvPicPr>
          <p:blipFill>
            <a:blip r:embed="rId1"/>
            <a:stretch/>
          </p:blipFill>
          <p:spPr>
            <a:xfrm>
              <a:off x="5016600" y="3935520"/>
              <a:ext cx="3514680" cy="3333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  <p:grpSp>
        <p:nvGrpSpPr>
          <p:cNvPr id="99" name="Group 58"/>
          <p:cNvGrpSpPr/>
          <p:nvPr/>
        </p:nvGrpSpPr>
        <p:grpSpPr>
          <a:xfrm>
            <a:off x="4678200" y="5734080"/>
            <a:ext cx="4286160" cy="647640"/>
            <a:chOff x="4678200" y="5734080"/>
            <a:chExt cx="4286160" cy="647640"/>
          </a:xfrm>
        </p:grpSpPr>
        <p:pic>
          <p:nvPicPr>
            <p:cNvPr id="100" name="Picture 56" descr=""/>
            <p:cNvPicPr/>
            <p:nvPr/>
          </p:nvPicPr>
          <p:blipFill>
            <a:blip r:embed="rId2"/>
            <a:stretch/>
          </p:blipFill>
          <p:spPr>
            <a:xfrm>
              <a:off x="6211440" y="5914800"/>
              <a:ext cx="2752920" cy="4669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101" name="Picture 57" descr=""/>
            <p:cNvPicPr/>
            <p:nvPr/>
          </p:nvPicPr>
          <p:blipFill>
            <a:blip r:embed="rId3"/>
            <a:stretch/>
          </p:blipFill>
          <p:spPr>
            <a:xfrm>
              <a:off x="4678200" y="5734080"/>
              <a:ext cx="1533240" cy="6476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8D29-EC0B-4D6B-AEFF-3036A2B1B6CC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73" name="Picture 22" descr=""/>
          <p:cNvPicPr/>
          <p:nvPr/>
        </p:nvPicPr>
        <p:blipFill>
          <a:blip r:embed="rId1"/>
          <a:stretch/>
        </p:blipFill>
        <p:spPr>
          <a:xfrm>
            <a:off x="685800" y="404640"/>
            <a:ext cx="5143680" cy="303876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26"/>
          <p:cNvSpPr/>
          <p:nvPr/>
        </p:nvSpPr>
        <p:spPr>
          <a:xfrm>
            <a:off x="344520" y="3284640"/>
            <a:ext cx="8682120" cy="3147840"/>
          </a:xfrm>
          <a:prstGeom prst="wedgeRectCallout">
            <a:avLst>
              <a:gd name="adj1" fmla="val -43106"/>
              <a:gd name="adj2" fmla="val -66439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75" name="Picture 16" descr=""/>
          <p:cNvPicPr/>
          <p:nvPr/>
        </p:nvPicPr>
        <p:blipFill>
          <a:blip r:embed="rId2"/>
          <a:stretch/>
        </p:blipFill>
        <p:spPr>
          <a:xfrm>
            <a:off x="685800" y="3549600"/>
            <a:ext cx="2724120" cy="600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6" name="Picture 17" descr=""/>
          <p:cNvPicPr/>
          <p:nvPr/>
        </p:nvPicPr>
        <p:blipFill>
          <a:blip r:embed="rId3"/>
          <a:stretch/>
        </p:blipFill>
        <p:spPr>
          <a:xfrm>
            <a:off x="3564000" y="3549600"/>
            <a:ext cx="3295440" cy="6285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77" name="Picture 18" descr=""/>
          <p:cNvPicPr/>
          <p:nvPr/>
        </p:nvPicPr>
        <p:blipFill>
          <a:blip r:embed="rId4"/>
          <a:stretch/>
        </p:blipFill>
        <p:spPr>
          <a:xfrm>
            <a:off x="657360" y="4292640"/>
            <a:ext cx="2752560" cy="581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8" name="Picture 19" descr=""/>
          <p:cNvPicPr/>
          <p:nvPr/>
        </p:nvPicPr>
        <p:blipFill>
          <a:blip r:embed="rId5"/>
          <a:stretch/>
        </p:blipFill>
        <p:spPr>
          <a:xfrm>
            <a:off x="3564000" y="4292640"/>
            <a:ext cx="4228920" cy="61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9" name="Picture 20" descr=""/>
          <p:cNvPicPr/>
          <p:nvPr/>
        </p:nvPicPr>
        <p:blipFill>
          <a:blip r:embed="rId6"/>
          <a:stretch/>
        </p:blipFill>
        <p:spPr>
          <a:xfrm>
            <a:off x="681120" y="5013360"/>
            <a:ext cx="4467240" cy="657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80" name="Picture 21" descr=""/>
          <p:cNvPicPr/>
          <p:nvPr/>
        </p:nvPicPr>
        <p:blipFill>
          <a:blip r:embed="rId7"/>
          <a:stretch/>
        </p:blipFill>
        <p:spPr>
          <a:xfrm>
            <a:off x="5302080" y="5013360"/>
            <a:ext cx="3429000" cy="590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81" name="Text Box 23"/>
          <p:cNvSpPr/>
          <p:nvPr/>
        </p:nvSpPr>
        <p:spPr>
          <a:xfrm>
            <a:off x="320400" y="68400"/>
            <a:ext cx="51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uthor’s Eclipse environment used in this document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725040" y="5908680"/>
            <a:ext cx="7814520" cy="36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MS 明朝"/>
              </a:rPr>
              <a:t>※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/C++ and Qt tools are not required for building/debugging GNU Electric.</a:t>
            </a:r>
            <a:endParaRPr b="1" lang="en-US" sz="1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C87D-FABD-475F-9C96-7EC5361FC06C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4" name="Freeform 24"/>
          <p:cNvSpPr/>
          <p:nvPr/>
        </p:nvSpPr>
        <p:spPr>
          <a:xfrm>
            <a:off x="552600" y="2637000"/>
            <a:ext cx="2290680" cy="2520720"/>
          </a:xfrm>
          <a:custGeom>
            <a:avLst/>
            <a:gdLst>
              <a:gd name="textAreaLeft" fmla="*/ 0 w 2290680"/>
              <a:gd name="textAreaRight" fmla="*/ 2291040 w 22906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1443" h="1588">
                <a:moveTo>
                  <a:pt x="219" y="0"/>
                </a:moveTo>
                <a:cubicBezTo>
                  <a:pt x="109" y="336"/>
                  <a:pt x="0" y="673"/>
                  <a:pt x="83" y="907"/>
                </a:cubicBezTo>
                <a:cubicBezTo>
                  <a:pt x="166" y="1141"/>
                  <a:pt x="491" y="1293"/>
                  <a:pt x="718" y="1406"/>
                </a:cubicBezTo>
                <a:cubicBezTo>
                  <a:pt x="945" y="1519"/>
                  <a:pt x="1194" y="1553"/>
                  <a:pt x="1443" y="1588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21480" y="68400"/>
            <a:ext cx="394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uthor’s batch file used to start Eclipse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86" name="Picture 17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5800680" cy="308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87" name="Freeform 18"/>
          <p:cNvSpPr/>
          <p:nvPr/>
        </p:nvSpPr>
        <p:spPr>
          <a:xfrm>
            <a:off x="82440" y="333360"/>
            <a:ext cx="1176480" cy="172728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741" h="1088">
                <a:moveTo>
                  <a:pt x="741" y="0"/>
                </a:moveTo>
                <a:cubicBezTo>
                  <a:pt x="476" y="158"/>
                  <a:pt x="212" y="317"/>
                  <a:pt x="106" y="453"/>
                </a:cubicBezTo>
                <a:cubicBezTo>
                  <a:pt x="0" y="589"/>
                  <a:pt x="38" y="710"/>
                  <a:pt x="106" y="816"/>
                </a:cubicBezTo>
                <a:cubicBezTo>
                  <a:pt x="174" y="922"/>
                  <a:pt x="344" y="1005"/>
                  <a:pt x="515" y="1088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8" name="Rectangle 20"/>
          <p:cNvSpPr/>
          <p:nvPr/>
        </p:nvSpPr>
        <p:spPr>
          <a:xfrm>
            <a:off x="2843280" y="2708280"/>
            <a:ext cx="6192720" cy="371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rem ----- Batch file for invoking Eclipse with Qt plug-in -----</a:t>
            </a:r>
            <a:endParaRPr b="1" lang="en-US" sz="1400" spc="-1" strike="noStrike">
              <a:solidFill>
                <a:srgbClr val="66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rem ----- Qt-related environment variables</a:t>
            </a:r>
            <a:endParaRPr b="1" lang="en-US" sz="1400" spc="-1" strike="noStrike">
              <a:solidFill>
                <a:srgbClr val="66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set QTDIR=D:\Qt\2009.01\qt\</a:t>
            </a:r>
            <a:endParaRPr b="1" lang="en-US" sz="1400" spc="-1" strike="noStrike">
              <a:solidFill>
                <a:srgbClr val="66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set QMAKESPEC=win32-g++</a:t>
            </a:r>
            <a:endParaRPr b="1" lang="en-US" sz="1400" spc="-1" strike="noStrike">
              <a:solidFill>
                <a:srgbClr val="66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set MINGWDIR=D:\Qt\2009.01\mingw\</a:t>
            </a:r>
            <a:endParaRPr b="1" lang="en-US" sz="1400" spc="-1" strike="noStrike">
              <a:solidFill>
                <a:srgbClr val="66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rem ----- Java SDK-related environment variable</a:t>
            </a:r>
            <a:endParaRPr b="1" lang="en-US" sz="1400" spc="-1" strike="noStrike">
              <a:solidFill>
                <a:srgbClr val="66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set JDKDIR=c:\Program Files\Java\jdk1.6.0_13\</a:t>
            </a:r>
            <a:endParaRPr b="1" lang="en-US" sz="1400" spc="-1" strike="noStrike">
              <a:solidFill>
                <a:srgbClr val="66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rem ----- Set path to all the tools</a:t>
            </a:r>
            <a:endParaRPr b="1" lang="en-US" sz="1400" spc="-1" strike="noStrike">
              <a:solidFill>
                <a:srgbClr val="66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set Path=%JDKDIR%\bin;%MINGWDIR%\bin;%QTDIR%\bin;%Path%</a:t>
            </a:r>
            <a:endParaRPr b="1" lang="en-US" sz="1400" spc="-1" strike="noStrike">
              <a:solidFill>
                <a:srgbClr val="66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rem ----- Invoke Eclipse</a:t>
            </a:r>
            <a:endParaRPr b="1" lang="en-US" sz="1400" spc="-1" strike="noStrike">
              <a:solidFill>
                <a:srgbClr val="66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all eclipse.exe</a:t>
            </a:r>
            <a:endParaRPr b="1" lang="en-US" sz="1400" spc="-1" strike="noStrike">
              <a:solidFill>
                <a:srgbClr val="66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exit</a:t>
            </a:r>
            <a:endParaRPr b="1" lang="en-US" sz="1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9" name="Freeform 21"/>
          <p:cNvSpPr/>
          <p:nvPr/>
        </p:nvSpPr>
        <p:spPr>
          <a:xfrm>
            <a:off x="2027160" y="2133720"/>
            <a:ext cx="1176480" cy="172692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726920"/>
              <a:gd name="textAreaBottom" fmla="*/ 1727280 h 1726920"/>
            </a:gdLst>
            <a:ahLst/>
            <a:rect l="textAreaLeft" t="textAreaTop" r="textAreaRight" b="textAreaBottom"/>
            <a:pathLst>
              <a:path w="741" h="1088">
                <a:moveTo>
                  <a:pt x="741" y="0"/>
                </a:moveTo>
                <a:cubicBezTo>
                  <a:pt x="476" y="158"/>
                  <a:pt x="212" y="317"/>
                  <a:pt x="106" y="453"/>
                </a:cubicBezTo>
                <a:cubicBezTo>
                  <a:pt x="0" y="589"/>
                  <a:pt x="38" y="710"/>
                  <a:pt x="106" y="816"/>
                </a:cubicBezTo>
                <a:cubicBezTo>
                  <a:pt x="174" y="922"/>
                  <a:pt x="344" y="1005"/>
                  <a:pt x="515" y="1088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0" name="Rectangle 22"/>
          <p:cNvSpPr/>
          <p:nvPr/>
        </p:nvSpPr>
        <p:spPr>
          <a:xfrm>
            <a:off x="900000" y="2544840"/>
            <a:ext cx="5800680" cy="154080"/>
          </a:xfrm>
          <a:prstGeom prst="rect">
            <a:avLst/>
          </a:prstGeom>
          <a:solidFill>
            <a:srgbClr val="ff99cc">
              <a:alpha val="3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1" name="Text Box 23"/>
          <p:cNvSpPr/>
          <p:nvPr/>
        </p:nvSpPr>
        <p:spPr>
          <a:xfrm>
            <a:off x="179280" y="4005360"/>
            <a:ext cx="2374920" cy="642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is shortcut calls the batch file.</a:t>
            </a:r>
            <a:endParaRPr b="1" lang="en-US" sz="1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8732-7AA4-4057-98FD-CE64E60AAC43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476360" y="4308480"/>
            <a:ext cx="5638680" cy="2143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1403280" y="836640"/>
            <a:ext cx="4753080" cy="3063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-99000" y="-1440"/>
            <a:ext cx="49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 Unicode MS"/>
                <a:ea typeface="Arial Unicode MS"/>
              </a:rPr>
              <a:t>03. Default workspace for Eclipse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588240" y="83664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1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3520" y="476280"/>
            <a:ext cx="17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Invoke Eclipse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648720" y="430992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2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446400" y="3971880"/>
            <a:ext cx="277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Set the default workspace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F19F-2C27-49D5-B646-0CCF1150CCE0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88240" y="83664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3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443160" y="476280"/>
            <a:ext cx="35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Uncheck “Build Automatically” flag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1428840" y="836640"/>
            <a:ext cx="2095560" cy="2247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4962600" y="836640"/>
            <a:ext cx="2057400" cy="2276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5" name="AutoShape 8"/>
          <p:cNvSpPr/>
          <p:nvPr/>
        </p:nvSpPr>
        <p:spPr>
          <a:xfrm>
            <a:off x="3780000" y="2133720"/>
            <a:ext cx="647640" cy="574560"/>
          </a:xfrm>
          <a:prstGeom prst="rightArrow">
            <a:avLst>
              <a:gd name="adj1" fmla="val 50000"/>
              <a:gd name="adj2" fmla="val 28180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1187280" y="2205000"/>
            <a:ext cx="798840" cy="4096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4602240" y="2205000"/>
            <a:ext cx="798480" cy="4096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798480" y="3357720"/>
            <a:ext cx="8094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This option is useful for incremental building.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As I’m going to build everything from scratch, let’s suppress this feature for the time being. 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Otherwise, compilation will automatically start while importing a Jar file to a new Java project.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6E96-6B54-461E-B5F0-8F859549D50C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0" name="WordArt 2"/>
          <p:cNvSpPr txBox="1"/>
          <p:nvPr/>
        </p:nvSpPr>
        <p:spPr>
          <a:xfrm>
            <a:off x="826920" y="2349360"/>
            <a:ext cx="75819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ＭＳ Ｐゴシック"/>
              </a:rPr>
              <a:t>Part-II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ＭＳ Ｐゴシック"/>
              </a:rPr>
              <a:t>Creating a New Project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ＭＳ Ｐゴシック"/>
              <a:ea typeface="ＭＳ Ｐゴシック"/>
            </a:endParaRPr>
          </a:p>
        </p:txBody>
      </p:sp>
      <p:sp>
        <p:nvSpPr>
          <p:cNvPr id="211" name="AutoShape 3"/>
          <p:cNvSpPr/>
          <p:nvPr/>
        </p:nvSpPr>
        <p:spPr>
          <a:xfrm>
            <a:off x="8317080" y="5805360"/>
            <a:ext cx="741240" cy="576360"/>
          </a:xfrm>
          <a:custGeom>
            <a:avLst/>
            <a:gdLst>
              <a:gd name="textAreaLeft" fmla="*/ 37080 w 741240"/>
              <a:gd name="textAreaRight" fmla="*/ 704160 w 7412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775" h="21600">
                <a:moveTo>
                  <a:pt x="0" y="0"/>
                </a:moveTo>
                <a:lnTo>
                  <a:pt x="27775" y="0"/>
                </a:lnTo>
                <a:lnTo>
                  <a:pt x="27775" y="21600"/>
                </a:lnTo>
                <a:lnTo>
                  <a:pt x="0" y="21600"/>
                </a:lnTo>
                <a:close/>
              </a:path>
              <a:path fill="lightenLess" w="27775" h="21600">
                <a:moveTo>
                  <a:pt x="0" y="0"/>
                </a:moveTo>
                <a:lnTo>
                  <a:pt x="27775" y="0"/>
                </a:lnTo>
                <a:lnTo>
                  <a:pt x="26375" y="1400"/>
                </a:lnTo>
                <a:lnTo>
                  <a:pt x="1400" y="1400"/>
                </a:lnTo>
                <a:close/>
              </a:path>
              <a:path fill="darken" w="27775" h="21600">
                <a:moveTo>
                  <a:pt x="27775" y="0"/>
                </a:moveTo>
                <a:lnTo>
                  <a:pt x="27775" y="21600"/>
                </a:lnTo>
                <a:lnTo>
                  <a:pt x="26375" y="20200"/>
                </a:lnTo>
                <a:lnTo>
                  <a:pt x="26375" y="1400"/>
                </a:lnTo>
                <a:close/>
              </a:path>
              <a:path fill="darkenLess" w="27775" h="21600">
                <a:moveTo>
                  <a:pt x="2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5" y="20200"/>
                </a:lnTo>
                <a:close/>
              </a:path>
              <a:path fill="lighten" w="2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5" h="21600">
                <a:moveTo>
                  <a:pt x="6881" y="7493"/>
                </a:moveTo>
                <a:lnTo>
                  <a:pt x="10389" y="7493"/>
                </a:lnTo>
                <a:lnTo>
                  <a:pt x="10389" y="12828"/>
                </a:lnTo>
                <a:cubicBezTo>
                  <a:pt x="10389" y="13751"/>
                  <a:pt x="11189" y="14482"/>
                  <a:pt x="12225" y="14482"/>
                </a:cubicBezTo>
                <a:lnTo>
                  <a:pt x="13888" y="14482"/>
                </a:lnTo>
                <a:cubicBezTo>
                  <a:pt x="14923" y="14482"/>
                  <a:pt x="15724" y="13751"/>
                  <a:pt x="15724" y="12828"/>
                </a:cubicBezTo>
                <a:lnTo>
                  <a:pt x="15724" y="7493"/>
                </a:lnTo>
                <a:lnTo>
                  <a:pt x="13888" y="7493"/>
                </a:lnTo>
                <a:lnTo>
                  <a:pt x="17395" y="3985"/>
                </a:lnTo>
                <a:lnTo>
                  <a:pt x="21068" y="7493"/>
                </a:lnTo>
                <a:lnTo>
                  <a:pt x="19232" y="7493"/>
                </a:lnTo>
                <a:lnTo>
                  <a:pt x="19232" y="12828"/>
                </a:lnTo>
                <a:cubicBezTo>
                  <a:pt x="19232" y="15596"/>
                  <a:pt x="16655" y="18155"/>
                  <a:pt x="13888" y="18155"/>
                </a:cubicBezTo>
                <a:lnTo>
                  <a:pt x="12225" y="18155"/>
                </a:lnTo>
                <a:cubicBezTo>
                  <a:pt x="9457" y="18155"/>
                  <a:pt x="6881" y="15596"/>
                  <a:pt x="6881" y="12828"/>
                </a:cubicBez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0B68-60B5-4AE2-B78A-79A9FDAE6093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213" name="Picture 9" descr=""/>
          <p:cNvPicPr/>
          <p:nvPr/>
        </p:nvPicPr>
        <p:blipFill>
          <a:blip r:embed="rId1"/>
          <a:stretch/>
        </p:blipFill>
        <p:spPr>
          <a:xfrm>
            <a:off x="581040" y="1685880"/>
            <a:ext cx="4753080" cy="1743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4" name="Picture 14" descr=""/>
          <p:cNvPicPr/>
          <p:nvPr/>
        </p:nvPicPr>
        <p:blipFill>
          <a:blip r:embed="rId2"/>
          <a:stretch/>
        </p:blipFill>
        <p:spPr>
          <a:xfrm>
            <a:off x="4519440" y="404640"/>
            <a:ext cx="4660920" cy="6056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-106920" y="-144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 Unicode MS"/>
                <a:ea typeface="Arial Unicode MS"/>
              </a:rPr>
              <a:t>01. Create a new project for GNU Electric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588240" y="107460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1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529560" y="66528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Create a new Java project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8" name="Oval 12"/>
          <p:cNvSpPr/>
          <p:nvPr/>
        </p:nvSpPr>
        <p:spPr>
          <a:xfrm>
            <a:off x="4500720" y="1363680"/>
            <a:ext cx="2369880" cy="84132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9" name="Oval 15"/>
          <p:cNvSpPr/>
          <p:nvPr/>
        </p:nvSpPr>
        <p:spPr>
          <a:xfrm>
            <a:off x="4429080" y="3716280"/>
            <a:ext cx="3311640" cy="4096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0" name="Oval 16"/>
          <p:cNvSpPr/>
          <p:nvPr/>
        </p:nvSpPr>
        <p:spPr>
          <a:xfrm>
            <a:off x="7589880" y="6021360"/>
            <a:ext cx="798480" cy="4096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1" name="Oval 17"/>
          <p:cNvSpPr/>
          <p:nvPr/>
        </p:nvSpPr>
        <p:spPr>
          <a:xfrm>
            <a:off x="4429080" y="2674800"/>
            <a:ext cx="3311640" cy="4096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47F2-D6D2-4CF3-ADBF-500B4FBBB632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223" name="Picture 11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3648240" cy="2819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24" name="Text Box 4"/>
          <p:cNvSpPr/>
          <p:nvPr/>
        </p:nvSpPr>
        <p:spPr>
          <a:xfrm>
            <a:off x="359640" y="54936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2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31120" y="212760"/>
            <a:ext cx="401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Import the JAR file of GNU Electric 8.08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226" name="Picture 9" descr=""/>
          <p:cNvPicPr/>
          <p:nvPr/>
        </p:nvPicPr>
        <p:blipFill>
          <a:blip r:embed="rId2"/>
          <a:stretch/>
        </p:blipFill>
        <p:spPr>
          <a:xfrm>
            <a:off x="3887640" y="1197000"/>
            <a:ext cx="5172120" cy="5238720"/>
          </a:xfrm>
          <a:prstGeom prst="rect">
            <a:avLst/>
          </a:prstGeom>
          <a:ln w="0">
            <a:noFill/>
          </a:ln>
        </p:spPr>
      </p:pic>
      <p:sp>
        <p:nvSpPr>
          <p:cNvPr id="227" name="Oval 10"/>
          <p:cNvSpPr/>
          <p:nvPr/>
        </p:nvSpPr>
        <p:spPr>
          <a:xfrm>
            <a:off x="3786120" y="2708280"/>
            <a:ext cx="2370240" cy="4096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8" name="Oval 13"/>
          <p:cNvSpPr/>
          <p:nvPr/>
        </p:nvSpPr>
        <p:spPr>
          <a:xfrm>
            <a:off x="6562800" y="5848200"/>
            <a:ext cx="961920" cy="64296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9D14-97DC-463B-AD8A-D9F1D0949859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359640" y="54936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3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231" name="Picture 13" descr=""/>
          <p:cNvPicPr/>
          <p:nvPr/>
        </p:nvPicPr>
        <p:blipFill>
          <a:blip r:embed="rId1"/>
          <a:stretch/>
        </p:blipFill>
        <p:spPr>
          <a:xfrm>
            <a:off x="1128600" y="549360"/>
            <a:ext cx="5172120" cy="52387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4"/>
          <p:cNvSpPr/>
          <p:nvPr/>
        </p:nvSpPr>
        <p:spPr>
          <a:xfrm>
            <a:off x="228600" y="212760"/>
            <a:ext cx="40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Select the JAR file of GNU Electric 8.08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3" name="Oval 15"/>
          <p:cNvSpPr/>
          <p:nvPr/>
        </p:nvSpPr>
        <p:spPr>
          <a:xfrm>
            <a:off x="1979640" y="1484280"/>
            <a:ext cx="2370240" cy="4096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4" name="Oval 16"/>
          <p:cNvSpPr/>
          <p:nvPr/>
        </p:nvSpPr>
        <p:spPr>
          <a:xfrm>
            <a:off x="4572000" y="5205240"/>
            <a:ext cx="961920" cy="64296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5" name="Text Box 18"/>
          <p:cNvSpPr/>
          <p:nvPr/>
        </p:nvSpPr>
        <p:spPr>
          <a:xfrm>
            <a:off x="4003560" y="1316160"/>
            <a:ext cx="290844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t “electric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inary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-8.08.jar”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50F1-1605-4678-9C31-CBF9B1F9A4A9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237" name="Picture 8" descr=""/>
          <p:cNvPicPr/>
          <p:nvPr/>
        </p:nvPicPr>
        <p:blipFill>
          <a:blip r:embed="rId1"/>
          <a:stretch/>
        </p:blipFill>
        <p:spPr>
          <a:xfrm>
            <a:off x="1163520" y="503280"/>
            <a:ext cx="5343480" cy="2571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38" name="Text Box 9"/>
          <p:cNvSpPr/>
          <p:nvPr/>
        </p:nvSpPr>
        <p:spPr>
          <a:xfrm>
            <a:off x="359640" y="52560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4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227160" y="189000"/>
            <a:ext cx="23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Configure Build Path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201D-D5CC-487D-B8B2-5769C1FF280F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241" name="Picture 11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419880" cy="5172120"/>
          </a:xfrm>
          <a:prstGeom prst="rect">
            <a:avLst/>
          </a:prstGeom>
          <a:ln w="0">
            <a:noFill/>
          </a:ln>
        </p:spPr>
      </p:pic>
      <p:sp>
        <p:nvSpPr>
          <p:cNvPr id="242" name="Oval 8"/>
          <p:cNvSpPr/>
          <p:nvPr/>
        </p:nvSpPr>
        <p:spPr>
          <a:xfrm>
            <a:off x="2843280" y="1182600"/>
            <a:ext cx="1054080" cy="3556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359640" y="54936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5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229320" y="212760"/>
            <a:ext cx="259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Check the build path (1)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BE6A-32BA-412B-95AC-2CC074D1D8E9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-30240" y="0"/>
            <a:ext cx="19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 Unicode MS"/>
                <a:ea typeface="Arial Unicode MS"/>
              </a:rPr>
              <a:t>Objectives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250920" y="801720"/>
            <a:ext cx="88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To build GNU Electric 8.08 from its source code by using Java SDK and Eclipse 3.4.2 (Ganymede)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457200" indent="-457200"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457200" indent="-457200"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To use the source code debugger to survey different causes of exceptions thrown by Electric while processing a user-defined Technology File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05" name="Picture 37" descr=""/>
          <p:cNvPicPr/>
          <p:nvPr/>
        </p:nvPicPr>
        <p:blipFill>
          <a:blip r:embed="rId1"/>
          <a:stretch/>
        </p:blipFill>
        <p:spPr>
          <a:xfrm>
            <a:off x="826920" y="3284640"/>
            <a:ext cx="475308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0CA9-69FB-4D20-B919-E3F46BD6ADFA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359640" y="54936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6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229320" y="212760"/>
            <a:ext cx="259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Check the build path (2)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248" name="Picture 17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7305840" cy="5172120"/>
          </a:xfrm>
          <a:prstGeom prst="rect">
            <a:avLst/>
          </a:prstGeom>
          <a:ln w="0">
            <a:noFill/>
          </a:ln>
        </p:spPr>
      </p:pic>
      <p:sp>
        <p:nvSpPr>
          <p:cNvPr id="249" name="Oval 18"/>
          <p:cNvSpPr/>
          <p:nvPr/>
        </p:nvSpPr>
        <p:spPr>
          <a:xfrm>
            <a:off x="3662280" y="1182600"/>
            <a:ext cx="1054080" cy="3556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5A08-E92C-4675-A1CA-27673F47F7E8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59640" y="54936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7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29320" y="212760"/>
            <a:ext cx="259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Check the build path (3)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7305840" cy="5172120"/>
          </a:xfrm>
          <a:prstGeom prst="rect">
            <a:avLst/>
          </a:prstGeom>
          <a:ln w="0">
            <a:noFill/>
          </a:ln>
        </p:spPr>
      </p:pic>
      <p:sp>
        <p:nvSpPr>
          <p:cNvPr id="254" name="Oval 8"/>
          <p:cNvSpPr/>
          <p:nvPr/>
        </p:nvSpPr>
        <p:spPr>
          <a:xfrm>
            <a:off x="4381560" y="1182600"/>
            <a:ext cx="1054080" cy="3556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B082-77AF-4720-8DB6-4081B508A985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59640" y="54936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8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232560" y="212760"/>
            <a:ext cx="41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Check the build path (4), then press [OK]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7305840" cy="5172120"/>
          </a:xfrm>
          <a:prstGeom prst="rect">
            <a:avLst/>
          </a:prstGeom>
          <a:ln w="0">
            <a:noFill/>
          </a:ln>
        </p:spPr>
      </p:pic>
      <p:sp>
        <p:nvSpPr>
          <p:cNvPr id="259" name="Oval 5"/>
          <p:cNvSpPr/>
          <p:nvPr/>
        </p:nvSpPr>
        <p:spPr>
          <a:xfrm>
            <a:off x="6732720" y="5157720"/>
            <a:ext cx="961920" cy="64296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0" name="Oval 6"/>
          <p:cNvSpPr/>
          <p:nvPr/>
        </p:nvSpPr>
        <p:spPr>
          <a:xfrm>
            <a:off x="5219640" y="1125360"/>
            <a:ext cx="1224000" cy="3556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E888-A556-4BE8-933C-82470546A985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3476520" cy="510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3" name="Picture 5" descr=""/>
          <p:cNvPicPr/>
          <p:nvPr/>
        </p:nvPicPr>
        <p:blipFill>
          <a:blip r:embed="rId2"/>
          <a:stretch/>
        </p:blipFill>
        <p:spPr>
          <a:xfrm>
            <a:off x="3203640" y="1052640"/>
            <a:ext cx="3324240" cy="5143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4" name="Picture 6" descr=""/>
          <p:cNvPicPr/>
          <p:nvPr/>
        </p:nvPicPr>
        <p:blipFill>
          <a:blip r:embed="rId3"/>
          <a:stretch/>
        </p:blipFill>
        <p:spPr>
          <a:xfrm>
            <a:off x="5676840" y="1052640"/>
            <a:ext cx="3467160" cy="4057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65" name="Text Box 7"/>
          <p:cNvSpPr/>
          <p:nvPr/>
        </p:nvSpPr>
        <p:spPr>
          <a:xfrm>
            <a:off x="359640" y="54936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9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230760" y="212760"/>
            <a:ext cx="476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Confirm that these packages have been created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EC8B-79E4-4336-8824-4048E6AFFEEE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588240" y="107460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1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531000" y="665280"/>
            <a:ext cx="310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Go through “README.txt” file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-191520" y="-144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 Unicode MS"/>
                <a:ea typeface="Arial Unicode MS"/>
              </a:rPr>
              <a:t>02. Information on how-to-build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271" name="Picture 6" descr=""/>
          <p:cNvPicPr/>
          <p:nvPr/>
        </p:nvPicPr>
        <p:blipFill>
          <a:blip r:embed="rId1"/>
          <a:stretch/>
        </p:blipFill>
        <p:spPr>
          <a:xfrm>
            <a:off x="1403280" y="1074600"/>
            <a:ext cx="3229200" cy="1419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72" name="Text Box 7"/>
          <p:cNvSpPr/>
          <p:nvPr/>
        </p:nvSpPr>
        <p:spPr>
          <a:xfrm>
            <a:off x="577080" y="311796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2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516600" y="2708280"/>
            <a:ext cx="461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Read “Building from Sources” section carefully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274" name="Picture 9" descr=""/>
          <p:cNvPicPr/>
          <p:nvPr/>
        </p:nvPicPr>
        <p:blipFill>
          <a:blip r:embed="rId2"/>
          <a:stretch/>
        </p:blipFill>
        <p:spPr>
          <a:xfrm>
            <a:off x="1403280" y="3117960"/>
            <a:ext cx="6286680" cy="3200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75" name="Rectangle 10"/>
          <p:cNvSpPr/>
          <p:nvPr/>
        </p:nvSpPr>
        <p:spPr>
          <a:xfrm>
            <a:off x="1403280" y="3117960"/>
            <a:ext cx="6286680" cy="239760"/>
          </a:xfrm>
          <a:prstGeom prst="rect">
            <a:avLst/>
          </a:prstGeom>
          <a:solidFill>
            <a:srgbClr val="ff99cc">
              <a:alpha val="3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9A5B-9988-473E-A310-E7D3992125B6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7" name="Text Box 2"/>
          <p:cNvSpPr/>
          <p:nvPr/>
        </p:nvSpPr>
        <p:spPr>
          <a:xfrm>
            <a:off x="-170640" y="-1440"/>
            <a:ext cx="50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 Unicode MS"/>
                <a:ea typeface="Arial Unicode MS"/>
              </a:rPr>
              <a:t>03. Edit “build.xml” file for Ant tool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289800" y="90000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1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230760" y="490680"/>
            <a:ext cx="52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Copy then paste “build.xml” to backup the original one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280" name="Picture 6" descr=""/>
          <p:cNvPicPr/>
          <p:nvPr/>
        </p:nvPicPr>
        <p:blipFill>
          <a:blip r:embed="rId1"/>
          <a:stretch/>
        </p:blipFill>
        <p:spPr>
          <a:xfrm>
            <a:off x="1104840" y="900000"/>
            <a:ext cx="4114800" cy="4905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81" name="Picture 7" descr=""/>
          <p:cNvPicPr/>
          <p:nvPr/>
        </p:nvPicPr>
        <p:blipFill>
          <a:blip r:embed="rId2"/>
          <a:stretch/>
        </p:blipFill>
        <p:spPr>
          <a:xfrm>
            <a:off x="3419640" y="2349360"/>
            <a:ext cx="5333760" cy="1695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82" name="Oval 8"/>
          <p:cNvSpPr/>
          <p:nvPr/>
        </p:nvSpPr>
        <p:spPr>
          <a:xfrm>
            <a:off x="2316240" y="1700280"/>
            <a:ext cx="1054080" cy="50472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3" name="Oval 9"/>
          <p:cNvSpPr/>
          <p:nvPr/>
        </p:nvSpPr>
        <p:spPr>
          <a:xfrm>
            <a:off x="6877080" y="3500280"/>
            <a:ext cx="1054080" cy="3556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3"/>
          <a:stretch/>
        </p:blipFill>
        <p:spPr>
          <a:xfrm>
            <a:off x="5627520" y="4950000"/>
            <a:ext cx="3048120" cy="1000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85" name="AutoShape 11"/>
          <p:cNvSpPr/>
          <p:nvPr/>
        </p:nvSpPr>
        <p:spPr>
          <a:xfrm>
            <a:off x="6877080" y="4149720"/>
            <a:ext cx="503280" cy="655560"/>
          </a:xfrm>
          <a:prstGeom prst="downArrow">
            <a:avLst>
              <a:gd name="adj1" fmla="val 50000"/>
              <a:gd name="adj2" fmla="val 32564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9DF8-57F5-4E06-ADD6-54B903429486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7" name="AutoShape 18"/>
          <p:cNvSpPr/>
          <p:nvPr/>
        </p:nvSpPr>
        <p:spPr>
          <a:xfrm>
            <a:off x="2843280" y="4941720"/>
            <a:ext cx="4268880" cy="459000"/>
          </a:xfrm>
          <a:prstGeom prst="leftRightArrow">
            <a:avLst>
              <a:gd name="adj1" fmla="val 50176"/>
              <a:gd name="adj2" fmla="val 142778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188280" y="95868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2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231480" y="378000"/>
            <a:ext cx="720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Edit “build.xml” according to the information described in “README.txt” file.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For example, Macintosh-related descriptions are to be removed.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290" name="Picture 7" descr=""/>
          <p:cNvPicPr/>
          <p:nvPr/>
        </p:nvPicPr>
        <p:blipFill>
          <a:blip r:embed="rId1"/>
          <a:stretch/>
        </p:blipFill>
        <p:spPr>
          <a:xfrm>
            <a:off x="181080" y="1461960"/>
            <a:ext cx="8962920" cy="64800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pic>
        <p:nvPicPr>
          <p:cNvPr id="291" name="Picture 8" descr=""/>
          <p:cNvPicPr/>
          <p:nvPr/>
        </p:nvPicPr>
        <p:blipFill>
          <a:blip r:embed="rId2"/>
          <a:stretch/>
        </p:blipFill>
        <p:spPr>
          <a:xfrm>
            <a:off x="181080" y="2257560"/>
            <a:ext cx="8896320" cy="78084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pic>
        <p:nvPicPr>
          <p:cNvPr id="292" name="Picture 9" descr=""/>
          <p:cNvPicPr/>
          <p:nvPr/>
        </p:nvPicPr>
        <p:blipFill>
          <a:blip r:embed="rId3"/>
          <a:stretch/>
        </p:blipFill>
        <p:spPr>
          <a:xfrm>
            <a:off x="174600" y="3141720"/>
            <a:ext cx="8915400" cy="44748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pic>
        <p:nvPicPr>
          <p:cNvPr id="293" name="Picture 10" descr=""/>
          <p:cNvPicPr/>
          <p:nvPr/>
        </p:nvPicPr>
        <p:blipFill>
          <a:blip r:embed="rId4"/>
          <a:stretch/>
        </p:blipFill>
        <p:spPr>
          <a:xfrm>
            <a:off x="165240" y="3716280"/>
            <a:ext cx="8943840" cy="39996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sp>
        <p:nvSpPr>
          <p:cNvPr id="294" name="Text Box 11"/>
          <p:cNvSpPr/>
          <p:nvPr/>
        </p:nvSpPr>
        <p:spPr>
          <a:xfrm>
            <a:off x="2052000" y="97164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Original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5" name="Text Box 12"/>
          <p:cNvSpPr/>
          <p:nvPr/>
        </p:nvSpPr>
        <p:spPr>
          <a:xfrm>
            <a:off x="6476400" y="95868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Modified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2474280" y="4116240"/>
            <a:ext cx="26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7184520" y="4116240"/>
            <a:ext cx="26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3852720" y="4708440"/>
            <a:ext cx="2374920" cy="916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npack and compare these two files for details</a:t>
            </a:r>
            <a:endParaRPr b="1" lang="en-US" sz="1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299" name="Object 20"/>
          <p:cNvGraphicFramePr/>
          <p:nvPr/>
        </p:nvGraphicFramePr>
        <p:xfrm>
          <a:off x="1692360" y="4865760"/>
          <a:ext cx="18288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4865760"/>
                    <a:ext cx="1828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21"/>
          <p:cNvGraphicFramePr/>
          <p:nvPr/>
        </p:nvGraphicFramePr>
        <p:xfrm>
          <a:off x="6443640" y="4802040"/>
          <a:ext cx="1828800" cy="137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2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43640" y="4802040"/>
                    <a:ext cx="1828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3" name="Picture 22" descr=""/>
          <p:cNvPicPr/>
          <p:nvPr/>
        </p:nvPicPr>
        <p:blipFill>
          <a:blip r:embed="rId9"/>
          <a:stretch/>
        </p:blipFill>
        <p:spPr>
          <a:xfrm>
            <a:off x="7296120" y="5931000"/>
            <a:ext cx="1781280" cy="50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04" name="Text Box 23"/>
          <p:cNvSpPr/>
          <p:nvPr/>
        </p:nvSpPr>
        <p:spPr>
          <a:xfrm>
            <a:off x="5038560" y="597528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The above tool is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5" name="AutoShape 25"/>
          <p:cNvSpPr/>
          <p:nvPr/>
        </p:nvSpPr>
        <p:spPr>
          <a:xfrm>
            <a:off x="1114560" y="6111720"/>
            <a:ext cx="433080" cy="338400"/>
          </a:xfrm>
          <a:custGeom>
            <a:avLst/>
            <a:gdLst>
              <a:gd name="textAreaLeft" fmla="*/ 21600 w 433080"/>
              <a:gd name="textAreaRight" fmla="*/ 411480 w 433080"/>
              <a:gd name="textAreaTop" fmla="*/ 21600 h 338400"/>
              <a:gd name="textAreaBottom" fmla="*/ 316800 h 338400"/>
            </a:gdLst>
            <a:ahLst/>
            <a:rect l="textAreaLeft" t="textAreaTop" r="textAreaRight" b="textAreaBottom"/>
            <a:pathLst>
              <a:path w="27637" h="21600">
                <a:moveTo>
                  <a:pt x="0" y="0"/>
                </a:moveTo>
                <a:lnTo>
                  <a:pt x="27637" y="0"/>
                </a:lnTo>
                <a:lnTo>
                  <a:pt x="27637" y="21600"/>
                </a:lnTo>
                <a:lnTo>
                  <a:pt x="0" y="21600"/>
                </a:lnTo>
                <a:close/>
              </a:path>
              <a:path fill="lightenLess" w="27637" h="21600">
                <a:moveTo>
                  <a:pt x="0" y="0"/>
                </a:moveTo>
                <a:lnTo>
                  <a:pt x="27637" y="0"/>
                </a:lnTo>
                <a:lnTo>
                  <a:pt x="26237" y="1400"/>
                </a:lnTo>
                <a:lnTo>
                  <a:pt x="1400" y="1400"/>
                </a:lnTo>
                <a:close/>
              </a:path>
              <a:path fill="darken" w="27637" h="21600">
                <a:moveTo>
                  <a:pt x="27637" y="0"/>
                </a:moveTo>
                <a:lnTo>
                  <a:pt x="27637" y="21600"/>
                </a:lnTo>
                <a:lnTo>
                  <a:pt x="26237" y="20200"/>
                </a:lnTo>
                <a:lnTo>
                  <a:pt x="26237" y="1400"/>
                </a:lnTo>
                <a:close/>
              </a:path>
              <a:path fill="darkenLess" w="27637" h="21600">
                <a:moveTo>
                  <a:pt x="27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37" y="20200"/>
                </a:lnTo>
                <a:close/>
              </a:path>
              <a:path fill="lighten" w="27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37" h="21600">
                <a:moveTo>
                  <a:pt x="6812" y="10800"/>
                </a:moveTo>
                <a:lnTo>
                  <a:pt x="20825" y="3794"/>
                </a:lnTo>
                <a:lnTo>
                  <a:pt x="20825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6" name="Text Box 26"/>
          <p:cNvSpPr/>
          <p:nvPr/>
        </p:nvSpPr>
        <p:spPr>
          <a:xfrm>
            <a:off x="1080" y="607860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Slide #8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919B-1B29-4ACB-9CE3-0B8B92CD611A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289800" y="90000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3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231840" y="490680"/>
            <a:ext cx="69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Delete “MacOSXInterface.java” file, which is not necessary for Windows 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1187280" y="900000"/>
            <a:ext cx="2990880" cy="3372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11" name="Picture 5" descr=""/>
          <p:cNvPicPr/>
          <p:nvPr/>
        </p:nvPicPr>
        <p:blipFill>
          <a:blip r:embed="rId2"/>
          <a:stretch/>
        </p:blipFill>
        <p:spPr>
          <a:xfrm>
            <a:off x="4425840" y="900000"/>
            <a:ext cx="4610160" cy="457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5F13-1DFB-467D-A6BC-B2563444F816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3" name="Freeform 13"/>
          <p:cNvSpPr/>
          <p:nvPr/>
        </p:nvSpPr>
        <p:spPr>
          <a:xfrm>
            <a:off x="34920" y="836640"/>
            <a:ext cx="7273800" cy="4608360"/>
          </a:xfrm>
          <a:custGeom>
            <a:avLst/>
            <a:gdLst>
              <a:gd name="textAreaLeft" fmla="*/ 0 w 7273800"/>
              <a:gd name="textAreaRight" fmla="*/ 7274160 w 7273800"/>
              <a:gd name="textAreaTop" fmla="*/ 0 h 4608360"/>
              <a:gd name="textAreaBottom" fmla="*/ 4608720 h 4608360"/>
            </a:gdLst>
            <a:ahLst/>
            <a:rect l="textAreaLeft" t="textAreaTop" r="textAreaRight" b="textAreaBottom"/>
            <a:pathLst>
              <a:path w="4582" h="2903">
                <a:moveTo>
                  <a:pt x="681" y="0"/>
                </a:moveTo>
                <a:lnTo>
                  <a:pt x="4582" y="0"/>
                </a:lnTo>
                <a:lnTo>
                  <a:pt x="4582" y="1724"/>
                </a:lnTo>
                <a:lnTo>
                  <a:pt x="2767" y="1724"/>
                </a:lnTo>
                <a:lnTo>
                  <a:pt x="2767" y="2903"/>
                </a:lnTo>
                <a:lnTo>
                  <a:pt x="0" y="2903"/>
                </a:lnTo>
                <a:lnTo>
                  <a:pt x="0" y="1724"/>
                </a:lnTo>
                <a:lnTo>
                  <a:pt x="681" y="1724"/>
                </a:lnTo>
                <a:lnTo>
                  <a:pt x="681" y="0"/>
                </a:lnTo>
                <a:close/>
              </a:path>
            </a:pathLst>
          </a:custGeom>
          <a:solidFill>
            <a:srgbClr val="ccff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314" name="Picture 8" descr=""/>
          <p:cNvPicPr/>
          <p:nvPr/>
        </p:nvPicPr>
        <p:blipFill>
          <a:blip r:embed="rId1"/>
          <a:stretch/>
        </p:blipFill>
        <p:spPr>
          <a:xfrm>
            <a:off x="108000" y="3718080"/>
            <a:ext cx="8753400" cy="1562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15" name="Text Box 2"/>
          <p:cNvSpPr/>
          <p:nvPr/>
        </p:nvSpPr>
        <p:spPr>
          <a:xfrm>
            <a:off x="289800" y="90000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4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229320" y="490680"/>
            <a:ext cx="468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Optionally edit a file to modify the splash image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7" name="Oval 7"/>
          <p:cNvSpPr/>
          <p:nvPr/>
        </p:nvSpPr>
        <p:spPr>
          <a:xfrm>
            <a:off x="2021040" y="4294080"/>
            <a:ext cx="2376360" cy="4320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318" name="Picture 9" descr=""/>
          <p:cNvPicPr/>
          <p:nvPr/>
        </p:nvPicPr>
        <p:blipFill>
          <a:blip r:embed="rId2"/>
          <a:stretch/>
        </p:blipFill>
        <p:spPr>
          <a:xfrm>
            <a:off x="1258920" y="900000"/>
            <a:ext cx="5877000" cy="2457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19" name="Oval 10"/>
          <p:cNvSpPr/>
          <p:nvPr/>
        </p:nvSpPr>
        <p:spPr>
          <a:xfrm>
            <a:off x="1116000" y="765000"/>
            <a:ext cx="1943280" cy="4320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6082560" y="5367240"/>
            <a:ext cx="1058400" cy="398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Original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1771200" y="5378400"/>
            <a:ext cx="1142280" cy="398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Modified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DDF0-43FA-40C0-8BAE-0773F8E0C75F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3" name="WordArt 2"/>
          <p:cNvSpPr txBox="1"/>
          <p:nvPr/>
        </p:nvSpPr>
        <p:spPr>
          <a:xfrm>
            <a:off x="826920" y="2349360"/>
            <a:ext cx="75819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ＭＳ Ｐゴシック"/>
              </a:rPr>
              <a:t>Part-III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ＭＳ Ｐゴシック"/>
              </a:rPr>
              <a:t>Building the New Project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ＭＳ Ｐゴシック"/>
              <a:ea typeface="ＭＳ Ｐゴシック"/>
            </a:endParaRPr>
          </a:p>
        </p:txBody>
      </p:sp>
      <p:sp>
        <p:nvSpPr>
          <p:cNvPr id="324" name="AutoShape 3"/>
          <p:cNvSpPr/>
          <p:nvPr/>
        </p:nvSpPr>
        <p:spPr>
          <a:xfrm>
            <a:off x="8317080" y="5805360"/>
            <a:ext cx="741240" cy="576360"/>
          </a:xfrm>
          <a:custGeom>
            <a:avLst/>
            <a:gdLst>
              <a:gd name="textAreaLeft" fmla="*/ 37080 w 741240"/>
              <a:gd name="textAreaRight" fmla="*/ 704160 w 7412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775" h="21600">
                <a:moveTo>
                  <a:pt x="0" y="0"/>
                </a:moveTo>
                <a:lnTo>
                  <a:pt x="27775" y="0"/>
                </a:lnTo>
                <a:lnTo>
                  <a:pt x="27775" y="21600"/>
                </a:lnTo>
                <a:lnTo>
                  <a:pt x="0" y="21600"/>
                </a:lnTo>
                <a:close/>
              </a:path>
              <a:path fill="lightenLess" w="27775" h="21600">
                <a:moveTo>
                  <a:pt x="0" y="0"/>
                </a:moveTo>
                <a:lnTo>
                  <a:pt x="27775" y="0"/>
                </a:lnTo>
                <a:lnTo>
                  <a:pt x="26375" y="1400"/>
                </a:lnTo>
                <a:lnTo>
                  <a:pt x="1400" y="1400"/>
                </a:lnTo>
                <a:close/>
              </a:path>
              <a:path fill="darken" w="27775" h="21600">
                <a:moveTo>
                  <a:pt x="27775" y="0"/>
                </a:moveTo>
                <a:lnTo>
                  <a:pt x="27775" y="21600"/>
                </a:lnTo>
                <a:lnTo>
                  <a:pt x="26375" y="20200"/>
                </a:lnTo>
                <a:lnTo>
                  <a:pt x="26375" y="1400"/>
                </a:lnTo>
                <a:close/>
              </a:path>
              <a:path fill="darkenLess" w="27775" h="21600">
                <a:moveTo>
                  <a:pt x="2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5" y="20200"/>
                </a:lnTo>
                <a:close/>
              </a:path>
              <a:path fill="lighten" w="2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5" h="21600">
                <a:moveTo>
                  <a:pt x="6881" y="7493"/>
                </a:moveTo>
                <a:lnTo>
                  <a:pt x="10389" y="7493"/>
                </a:lnTo>
                <a:lnTo>
                  <a:pt x="10389" y="12828"/>
                </a:lnTo>
                <a:cubicBezTo>
                  <a:pt x="10389" y="13751"/>
                  <a:pt x="11189" y="14482"/>
                  <a:pt x="12225" y="14482"/>
                </a:cubicBezTo>
                <a:lnTo>
                  <a:pt x="13888" y="14482"/>
                </a:lnTo>
                <a:cubicBezTo>
                  <a:pt x="14923" y="14482"/>
                  <a:pt x="15724" y="13751"/>
                  <a:pt x="15724" y="12828"/>
                </a:cubicBezTo>
                <a:lnTo>
                  <a:pt x="15724" y="7493"/>
                </a:lnTo>
                <a:lnTo>
                  <a:pt x="13888" y="7493"/>
                </a:lnTo>
                <a:lnTo>
                  <a:pt x="17395" y="3985"/>
                </a:lnTo>
                <a:lnTo>
                  <a:pt x="21068" y="7493"/>
                </a:lnTo>
                <a:lnTo>
                  <a:pt x="19232" y="7493"/>
                </a:lnTo>
                <a:lnTo>
                  <a:pt x="19232" y="12828"/>
                </a:lnTo>
                <a:cubicBezTo>
                  <a:pt x="19232" y="15596"/>
                  <a:pt x="16655" y="18155"/>
                  <a:pt x="13888" y="18155"/>
                </a:cubicBezTo>
                <a:lnTo>
                  <a:pt x="12225" y="18155"/>
                </a:lnTo>
                <a:cubicBezTo>
                  <a:pt x="9457" y="18155"/>
                  <a:pt x="6881" y="15596"/>
                  <a:pt x="6881" y="12828"/>
                </a:cubicBez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955A-A08F-4217-A1D4-3A3AF5E7BBD0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07" name="Picture 23" descr=""/>
          <p:cNvPicPr/>
          <p:nvPr/>
        </p:nvPicPr>
        <p:blipFill>
          <a:blip r:embed="rId1"/>
          <a:stretch/>
        </p:blipFill>
        <p:spPr>
          <a:xfrm>
            <a:off x="1278000" y="895320"/>
            <a:ext cx="5638680" cy="2143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8" descr=""/>
          <p:cNvPicPr/>
          <p:nvPr/>
        </p:nvPicPr>
        <p:blipFill>
          <a:blip r:embed="rId2"/>
          <a:stretch/>
        </p:blipFill>
        <p:spPr>
          <a:xfrm>
            <a:off x="1314360" y="3745080"/>
            <a:ext cx="2095560" cy="2247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9" name="Text Box 2"/>
          <p:cNvSpPr/>
          <p:nvPr/>
        </p:nvSpPr>
        <p:spPr>
          <a:xfrm>
            <a:off x="-210960" y="-1440"/>
            <a:ext cx="64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 Unicode MS"/>
                <a:ea typeface="Arial Unicode MS"/>
              </a:rPr>
              <a:t>Some icons used throughout this document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4105800" y="3213000"/>
            <a:ext cx="4930920" cy="3988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Micro-steps to be followed sequentially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Line 20"/>
          <p:cNvSpPr/>
          <p:nvPr/>
        </p:nvSpPr>
        <p:spPr>
          <a:xfrm flipH="1" flipV="1">
            <a:off x="1031400" y="1306080"/>
            <a:ext cx="3065400" cy="20782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2" name="Line 21"/>
          <p:cNvSpPr/>
          <p:nvPr/>
        </p:nvSpPr>
        <p:spPr>
          <a:xfrm flipH="1">
            <a:off x="1157400" y="3429000"/>
            <a:ext cx="2916000" cy="5763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450000" y="89676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2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248040" y="558720"/>
            <a:ext cx="277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Set the default workspace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473760" y="374508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3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328680" y="3384720"/>
            <a:ext cx="35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Uncheck “Build Automatically” flag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17" name="Picture 31" descr=""/>
          <p:cNvPicPr/>
          <p:nvPr/>
        </p:nvPicPr>
        <p:blipFill>
          <a:blip r:embed="rId3"/>
          <a:stretch/>
        </p:blipFill>
        <p:spPr>
          <a:xfrm>
            <a:off x="5283360" y="5597640"/>
            <a:ext cx="3762360" cy="790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8" name="Text Box 32"/>
          <p:cNvSpPr/>
          <p:nvPr/>
        </p:nvSpPr>
        <p:spPr>
          <a:xfrm>
            <a:off x="3695400" y="4367160"/>
            <a:ext cx="4861080" cy="3988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Options/points to be carefully checked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9" name="Line 33"/>
          <p:cNvSpPr/>
          <p:nvPr/>
        </p:nvSpPr>
        <p:spPr>
          <a:xfrm>
            <a:off x="4451400" y="4797360"/>
            <a:ext cx="1415880" cy="11178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6B1C-E3F7-4FEF-AAF5-8ADC9463FED7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-79560" y="-1440"/>
            <a:ext cx="30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 Unicode MS"/>
                <a:ea typeface="Arial Unicode MS"/>
              </a:rPr>
              <a:t>01. Build by Ant tool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289800" y="90000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1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229320" y="490680"/>
            <a:ext cx="466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To clean, follow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clean </a:t>
            </a:r>
            <a:r>
              <a:rPr b="1" lang="en-US" sz="16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Run As </a:t>
            </a:r>
            <a:r>
              <a:rPr b="1" lang="en-US" sz="16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Ant Build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329" name="Picture 7" descr=""/>
          <p:cNvPicPr/>
          <p:nvPr/>
        </p:nvPicPr>
        <p:blipFill>
          <a:blip r:embed="rId1"/>
          <a:stretch/>
        </p:blipFill>
        <p:spPr>
          <a:xfrm>
            <a:off x="7020000" y="826920"/>
            <a:ext cx="1971720" cy="3915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30" name="Picture 8" descr=""/>
          <p:cNvPicPr/>
          <p:nvPr/>
        </p:nvPicPr>
        <p:blipFill>
          <a:blip r:embed="rId2"/>
          <a:stretch/>
        </p:blipFill>
        <p:spPr>
          <a:xfrm>
            <a:off x="252360" y="1957320"/>
            <a:ext cx="6743880" cy="2048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31" name="Picture 9" descr=""/>
          <p:cNvPicPr/>
          <p:nvPr/>
        </p:nvPicPr>
        <p:blipFill>
          <a:blip r:embed="rId3"/>
          <a:stretch/>
        </p:blipFill>
        <p:spPr>
          <a:xfrm>
            <a:off x="1252440" y="4327560"/>
            <a:ext cx="5695920" cy="1371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32" name="AutoShape 10"/>
          <p:cNvSpPr/>
          <p:nvPr/>
        </p:nvSpPr>
        <p:spPr>
          <a:xfrm rot="5400000">
            <a:off x="287280" y="4345200"/>
            <a:ext cx="1008000" cy="792000"/>
          </a:xfrm>
          <a:custGeom>
            <a:avLst/>
            <a:gdLst>
              <a:gd name="textAreaLeft" fmla="*/ 0 w 1008000"/>
              <a:gd name="textAreaRight" fmla="*/ 864000 w 1008000"/>
              <a:gd name="textAreaTop" fmla="*/ 52812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4D38-1BA0-429E-AB98-66D8A1B3DED9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334" name="Picture 7" descr=""/>
          <p:cNvPicPr/>
          <p:nvPr/>
        </p:nvPicPr>
        <p:blipFill>
          <a:blip r:embed="rId1"/>
          <a:stretch/>
        </p:blipFill>
        <p:spPr>
          <a:xfrm>
            <a:off x="3033720" y="4491000"/>
            <a:ext cx="5715000" cy="196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6497640" y="826920"/>
            <a:ext cx="2571840" cy="2419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36" name="Picture 3" descr=""/>
          <p:cNvPicPr/>
          <p:nvPr/>
        </p:nvPicPr>
        <p:blipFill>
          <a:blip r:embed="rId3"/>
          <a:stretch/>
        </p:blipFill>
        <p:spPr>
          <a:xfrm>
            <a:off x="282600" y="1484280"/>
            <a:ext cx="6667560" cy="212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37" name="Text Box 4"/>
          <p:cNvSpPr/>
          <p:nvPr/>
        </p:nvSpPr>
        <p:spPr>
          <a:xfrm>
            <a:off x="289800" y="90000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2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230400" y="490680"/>
            <a:ext cx="485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To build, follow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compile </a:t>
            </a:r>
            <a:r>
              <a:rPr b="1" lang="en-US" sz="16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Run As </a:t>
            </a:r>
            <a:r>
              <a:rPr b="1" lang="en-US" sz="16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Ant Build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339" name="Picture 6" descr=""/>
          <p:cNvPicPr/>
          <p:nvPr/>
        </p:nvPicPr>
        <p:blipFill>
          <a:blip r:embed="rId4"/>
          <a:stretch/>
        </p:blipFill>
        <p:spPr>
          <a:xfrm>
            <a:off x="1235160" y="4208400"/>
            <a:ext cx="5886360" cy="876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40" name="AutoShape 8"/>
          <p:cNvSpPr/>
          <p:nvPr/>
        </p:nvSpPr>
        <p:spPr>
          <a:xfrm rot="5400000">
            <a:off x="216000" y="3840120"/>
            <a:ext cx="1008000" cy="792000"/>
          </a:xfrm>
          <a:custGeom>
            <a:avLst/>
            <a:gdLst>
              <a:gd name="textAreaLeft" fmla="*/ 0 w 1008000"/>
              <a:gd name="textAreaRight" fmla="*/ 864000 w 1008000"/>
              <a:gd name="textAreaTop" fmla="*/ 52812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5087880" y="5786280"/>
            <a:ext cx="3692160" cy="368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ccessfully built with 91 warnings</a:t>
            </a:r>
            <a:endParaRPr b="1" lang="en-US" sz="1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A156-15D7-4A3A-A537-96318F65F14D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289800" y="90000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3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231840" y="490680"/>
            <a:ext cx="47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To run, follow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runMain </a:t>
            </a:r>
            <a:r>
              <a:rPr b="1" lang="en-US" sz="16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Run As </a:t>
            </a:r>
            <a:r>
              <a:rPr b="1" lang="en-US" sz="16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Ant Build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1"/>
          <a:stretch/>
        </p:blipFill>
        <p:spPr>
          <a:xfrm>
            <a:off x="6588000" y="900000"/>
            <a:ext cx="1971720" cy="2552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6" name="Picture 5" descr=""/>
          <p:cNvPicPr/>
          <p:nvPr/>
        </p:nvPicPr>
        <p:blipFill>
          <a:blip r:embed="rId2"/>
          <a:stretch/>
        </p:blipFill>
        <p:spPr>
          <a:xfrm>
            <a:off x="252360" y="1490760"/>
            <a:ext cx="6505560" cy="196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AE30-04C4-4B5C-8CC0-B98A88C1A6E3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289800" y="52560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4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230400" y="115920"/>
            <a:ext cx="60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Check that the tool has started successfully; watch the console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350" name="Picture 7" descr=""/>
          <p:cNvPicPr/>
          <p:nvPr/>
        </p:nvPicPr>
        <p:blipFill>
          <a:blip r:embed="rId1"/>
          <a:stretch/>
        </p:blipFill>
        <p:spPr>
          <a:xfrm>
            <a:off x="1835280" y="4433760"/>
            <a:ext cx="7115040" cy="2009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51" name="Line 9"/>
          <p:cNvSpPr/>
          <p:nvPr/>
        </p:nvSpPr>
        <p:spPr>
          <a:xfrm flipH="1">
            <a:off x="6300360" y="3693960"/>
            <a:ext cx="1150920" cy="13194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6021360" y="3279600"/>
            <a:ext cx="2928960" cy="642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ded Technologies” is being loaded…</a:t>
            </a:r>
            <a:endParaRPr b="1" lang="en-US" sz="1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3" name="Rectangle 10"/>
          <p:cNvSpPr/>
          <p:nvPr/>
        </p:nvSpPr>
        <p:spPr>
          <a:xfrm>
            <a:off x="1835280" y="4997520"/>
            <a:ext cx="7115040" cy="144360"/>
          </a:xfrm>
          <a:prstGeom prst="rect">
            <a:avLst/>
          </a:prstGeom>
          <a:solidFill>
            <a:srgbClr val="ff99cc">
              <a:alpha val="3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354" name="Picture 12" descr=""/>
          <p:cNvPicPr/>
          <p:nvPr/>
        </p:nvPicPr>
        <p:blipFill>
          <a:blip r:embed="rId2"/>
          <a:stretch/>
        </p:blipFill>
        <p:spPr>
          <a:xfrm>
            <a:off x="1258920" y="525600"/>
            <a:ext cx="4218120" cy="4344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55" name="Oval 14"/>
          <p:cNvSpPr/>
          <p:nvPr/>
        </p:nvSpPr>
        <p:spPr>
          <a:xfrm>
            <a:off x="2411280" y="4365720"/>
            <a:ext cx="3065760" cy="43164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D337-E2F0-4BD5-820A-255B8149F86C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-144720" y="-1440"/>
            <a:ext cx="54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 Unicode MS"/>
                <a:ea typeface="Arial Unicode MS"/>
              </a:rPr>
              <a:t>02. Quickly check that the tool works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289800" y="90000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1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229320" y="490680"/>
            <a:ext cx="370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Load a library and open a layout cell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360" name="Picture 5" descr=""/>
          <p:cNvPicPr/>
          <p:nvPr/>
        </p:nvPicPr>
        <p:blipFill>
          <a:blip r:embed="rId1"/>
          <a:stretch/>
        </p:blipFill>
        <p:spPr>
          <a:xfrm>
            <a:off x="1116000" y="900000"/>
            <a:ext cx="5616720" cy="557856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6"/>
          <p:cNvSpPr/>
          <p:nvPr/>
        </p:nvSpPr>
        <p:spPr>
          <a:xfrm>
            <a:off x="6843600" y="5516640"/>
            <a:ext cx="1646280" cy="368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ooks OK!</a:t>
            </a:r>
            <a:endParaRPr b="1" lang="en-US" sz="1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5002-03B2-45A4-83AE-9935899EC4F7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289800" y="69516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2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229320" y="2840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Run NCC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1"/>
          <a:stretch/>
        </p:blipFill>
        <p:spPr>
          <a:xfrm>
            <a:off x="1187280" y="695160"/>
            <a:ext cx="5276880" cy="3343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66" name="Picture 5" descr=""/>
          <p:cNvPicPr/>
          <p:nvPr/>
        </p:nvPicPr>
        <p:blipFill>
          <a:blip r:embed="rId2"/>
          <a:stretch/>
        </p:blipFill>
        <p:spPr>
          <a:xfrm>
            <a:off x="3203640" y="2708280"/>
            <a:ext cx="5648400" cy="3733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67" name="Text Box 6"/>
          <p:cNvSpPr/>
          <p:nvPr/>
        </p:nvSpPr>
        <p:spPr>
          <a:xfrm>
            <a:off x="1403280" y="5210280"/>
            <a:ext cx="1646280" cy="368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ooks OK!</a:t>
            </a:r>
            <a:endParaRPr b="1" lang="en-US" sz="1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8" name="AutoShape 8"/>
          <p:cNvSpPr/>
          <p:nvPr/>
        </p:nvSpPr>
        <p:spPr>
          <a:xfrm rot="5400000">
            <a:off x="1871640" y="4237200"/>
            <a:ext cx="1008000" cy="792000"/>
          </a:xfrm>
          <a:custGeom>
            <a:avLst/>
            <a:gdLst>
              <a:gd name="textAreaLeft" fmla="*/ 0 w 1008000"/>
              <a:gd name="textAreaRight" fmla="*/ 864000 w 1008000"/>
              <a:gd name="textAreaTop" fmla="*/ 52812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2498-4164-405D-A73F-BDE999441949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0" name="Text Box 2"/>
          <p:cNvSpPr/>
          <p:nvPr/>
        </p:nvSpPr>
        <p:spPr>
          <a:xfrm>
            <a:off x="289800" y="69516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3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229320" y="2840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Run DRC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372" name="Picture 4" descr=""/>
          <p:cNvPicPr/>
          <p:nvPr/>
        </p:nvPicPr>
        <p:blipFill>
          <a:blip r:embed="rId1"/>
          <a:stretch/>
        </p:blipFill>
        <p:spPr>
          <a:xfrm>
            <a:off x="1187280" y="695160"/>
            <a:ext cx="4077000" cy="2990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73" name="Picture 5" descr=""/>
          <p:cNvPicPr/>
          <p:nvPr/>
        </p:nvPicPr>
        <p:blipFill>
          <a:blip r:embed="rId2"/>
          <a:stretch/>
        </p:blipFill>
        <p:spPr>
          <a:xfrm>
            <a:off x="2843280" y="2852640"/>
            <a:ext cx="6067440" cy="3552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74" name="AutoShape 6"/>
          <p:cNvSpPr/>
          <p:nvPr/>
        </p:nvSpPr>
        <p:spPr>
          <a:xfrm rot="5400000">
            <a:off x="1655280" y="3897000"/>
            <a:ext cx="1008000" cy="792360"/>
          </a:xfrm>
          <a:custGeom>
            <a:avLst/>
            <a:gdLst>
              <a:gd name="textAreaLeft" fmla="*/ 0 w 1008000"/>
              <a:gd name="textAreaRight" fmla="*/ 864000 w 1008000"/>
              <a:gd name="textAreaTop" fmla="*/ 52848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973080" y="4797360"/>
            <a:ext cx="1646280" cy="642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ception has been caught!</a:t>
            </a:r>
            <a:endParaRPr b="1" lang="en-US" sz="1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60AF-271F-4419-8C1A-13A57E1D5927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7" name="Text Box 2"/>
          <p:cNvSpPr/>
          <p:nvPr/>
        </p:nvSpPr>
        <p:spPr>
          <a:xfrm>
            <a:off x="289800" y="69516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4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8" name="Text Box 3"/>
          <p:cNvSpPr/>
          <p:nvPr/>
        </p:nvSpPr>
        <p:spPr>
          <a:xfrm>
            <a:off x="227520" y="284040"/>
            <a:ext cx="408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Check the console of Eclipse workbench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1187280" y="3454560"/>
            <a:ext cx="5689800" cy="368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e same exception has also been caught by Eclipse</a:t>
            </a:r>
            <a:endParaRPr b="1" lang="en-US" sz="1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380" name="Picture 6" descr=""/>
          <p:cNvPicPr/>
          <p:nvPr/>
        </p:nvPicPr>
        <p:blipFill>
          <a:blip r:embed="rId1"/>
          <a:stretch/>
        </p:blipFill>
        <p:spPr>
          <a:xfrm>
            <a:off x="1187280" y="695160"/>
            <a:ext cx="7162920" cy="2581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81" name="Text Box 7"/>
          <p:cNvSpPr/>
          <p:nvPr/>
        </p:nvSpPr>
        <p:spPr>
          <a:xfrm>
            <a:off x="288360" y="448776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5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230040" y="4076640"/>
            <a:ext cx="78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Click a hyperlink and confirm that the source code can be loaded to the editor view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1187280" y="1820880"/>
            <a:ext cx="7115400" cy="144360"/>
          </a:xfrm>
          <a:prstGeom prst="rect">
            <a:avLst/>
          </a:prstGeom>
          <a:solidFill>
            <a:srgbClr val="ff99cc">
              <a:alpha val="3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384" name="Group 14"/>
          <p:cNvGrpSpPr/>
          <p:nvPr/>
        </p:nvGrpSpPr>
        <p:grpSpPr>
          <a:xfrm>
            <a:off x="1187280" y="4487760"/>
            <a:ext cx="1223640" cy="1317600"/>
            <a:chOff x="1187280" y="4487760"/>
            <a:chExt cx="1223640" cy="1317600"/>
          </a:xfrm>
        </p:grpSpPr>
        <p:sp>
          <p:nvSpPr>
            <p:cNvPr id="385" name="Freeform 15"/>
            <p:cNvSpPr/>
            <p:nvPr/>
          </p:nvSpPr>
          <p:spPr>
            <a:xfrm rot="16200000">
              <a:off x="1149840" y="4551480"/>
              <a:ext cx="1290960" cy="1216440"/>
            </a:xfrm>
            <a:custGeom>
              <a:avLst/>
              <a:gdLst>
                <a:gd name="textAreaLeft" fmla="*/ 0 w 1290960"/>
                <a:gd name="textAreaRight" fmla="*/ 1290960 w 1290960"/>
                <a:gd name="textAreaTop" fmla="*/ 0 h 1216440"/>
                <a:gd name="textAreaBottom" fmla="*/ 1216800 h 121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106"/>
                  </a:moveTo>
                  <a:cubicBezTo>
                    <a:pt x="476" y="6106"/>
                    <a:pt x="1227" y="6289"/>
                    <a:pt x="1603" y="6106"/>
                  </a:cubicBezTo>
                  <a:cubicBezTo>
                    <a:pt x="2003" y="5868"/>
                    <a:pt x="3807" y="3447"/>
                    <a:pt x="4883" y="2585"/>
                  </a:cubicBezTo>
                  <a:cubicBezTo>
                    <a:pt x="5910" y="1632"/>
                    <a:pt x="7438" y="0"/>
                    <a:pt x="10543" y="1632"/>
                  </a:cubicBezTo>
                  <a:cubicBezTo>
                    <a:pt x="12359" y="1632"/>
                    <a:pt x="18131" y="1632"/>
                    <a:pt x="19008" y="1632"/>
                  </a:cubicBezTo>
                  <a:cubicBezTo>
                    <a:pt x="19872" y="1632"/>
                    <a:pt x="21600" y="1852"/>
                    <a:pt x="21600" y="3594"/>
                  </a:cubicBezTo>
                  <a:cubicBezTo>
                    <a:pt x="21600" y="5336"/>
                    <a:pt x="20899" y="6491"/>
                    <a:pt x="19672" y="6491"/>
                  </a:cubicBezTo>
                  <a:cubicBezTo>
                    <a:pt x="18482" y="6491"/>
                    <a:pt x="15715" y="6491"/>
                    <a:pt x="14375" y="6491"/>
                  </a:cubicBezTo>
                  <a:cubicBezTo>
                    <a:pt x="15514" y="7059"/>
                    <a:pt x="16904" y="9260"/>
                    <a:pt x="15464" y="11919"/>
                  </a:cubicBezTo>
                  <a:cubicBezTo>
                    <a:pt x="16341" y="13532"/>
                    <a:pt x="16704" y="14614"/>
                    <a:pt x="14738" y="16576"/>
                  </a:cubicBezTo>
                  <a:cubicBezTo>
                    <a:pt x="15101" y="17584"/>
                    <a:pt x="15264" y="18556"/>
                    <a:pt x="14788" y="19473"/>
                  </a:cubicBezTo>
                  <a:cubicBezTo>
                    <a:pt x="14237" y="20353"/>
                    <a:pt x="12797" y="20665"/>
                    <a:pt x="11345" y="20775"/>
                  </a:cubicBezTo>
                  <a:cubicBezTo>
                    <a:pt x="8878" y="21600"/>
                    <a:pt x="6937" y="21050"/>
                    <a:pt x="5497" y="20096"/>
                  </a:cubicBezTo>
                  <a:cubicBezTo>
                    <a:pt x="4107" y="19161"/>
                    <a:pt x="3130" y="17383"/>
                    <a:pt x="2467" y="17053"/>
                  </a:cubicBezTo>
                  <a:cubicBezTo>
                    <a:pt x="1753" y="16668"/>
                    <a:pt x="664" y="16668"/>
                    <a:pt x="0" y="16649"/>
                  </a:cubicBezTo>
                  <a:cubicBezTo>
                    <a:pt x="0" y="15494"/>
                    <a:pt x="0" y="6106"/>
                    <a:pt x="0" y="6106"/>
                  </a:cubicBezTo>
                </a:path>
              </a:pathLst>
            </a:custGeom>
            <a:solidFill>
              <a:srgbClr val="ffe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660033"/>
                </a:solidFill>
                <a:latin typeface="Arial"/>
              </a:endParaRPr>
            </a:p>
          </p:txBody>
        </p:sp>
        <p:pic>
          <p:nvPicPr>
            <p:cNvPr id="386" name="Picture 16" descr=""/>
            <p:cNvPicPr/>
            <p:nvPr/>
          </p:nvPicPr>
          <p:blipFill>
            <a:blip r:embed="rId2"/>
            <a:stretch/>
          </p:blipFill>
          <p:spPr>
            <a:xfrm rot="16200000">
              <a:off x="1145520" y="4539960"/>
              <a:ext cx="1317600" cy="1213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BE1D-8507-4730-B6D8-53C40B50F884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1135080" y="676440"/>
            <a:ext cx="7182000" cy="5057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89" name="Oval 3"/>
          <p:cNvSpPr/>
          <p:nvPr/>
        </p:nvSpPr>
        <p:spPr>
          <a:xfrm>
            <a:off x="1917720" y="620640"/>
            <a:ext cx="1440000" cy="2872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0" name="Oval 4"/>
          <p:cNvSpPr/>
          <p:nvPr/>
        </p:nvSpPr>
        <p:spPr>
          <a:xfrm>
            <a:off x="1012680" y="2197080"/>
            <a:ext cx="935280" cy="33192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258120" y="72216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6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227520" y="284040"/>
            <a:ext cx="571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The location has been correctly identified in the editor view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3AA2-051E-48BB-9F8F-9E7A59355D22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4" name="WordArt 2"/>
          <p:cNvSpPr txBox="1"/>
          <p:nvPr/>
        </p:nvSpPr>
        <p:spPr>
          <a:xfrm>
            <a:off x="826920" y="2349360"/>
            <a:ext cx="75819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ＭＳ Ｐゴシック"/>
              </a:rPr>
              <a:t>Part-IV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ＭＳ Ｐゴシック"/>
              </a:rPr>
              <a:t>Debugging GNU Electric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ＭＳ Ｐゴシック"/>
              <a:ea typeface="ＭＳ Ｐゴシック"/>
            </a:endParaRPr>
          </a:p>
        </p:txBody>
      </p:sp>
      <p:sp>
        <p:nvSpPr>
          <p:cNvPr id="395" name="AutoShape 3"/>
          <p:cNvSpPr/>
          <p:nvPr/>
        </p:nvSpPr>
        <p:spPr>
          <a:xfrm>
            <a:off x="8317080" y="5805360"/>
            <a:ext cx="741240" cy="576360"/>
          </a:xfrm>
          <a:custGeom>
            <a:avLst/>
            <a:gdLst>
              <a:gd name="textAreaLeft" fmla="*/ 37080 w 741240"/>
              <a:gd name="textAreaRight" fmla="*/ 704160 w 7412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775" h="21600">
                <a:moveTo>
                  <a:pt x="0" y="0"/>
                </a:moveTo>
                <a:lnTo>
                  <a:pt x="27775" y="0"/>
                </a:lnTo>
                <a:lnTo>
                  <a:pt x="27775" y="21600"/>
                </a:lnTo>
                <a:lnTo>
                  <a:pt x="0" y="21600"/>
                </a:lnTo>
                <a:close/>
              </a:path>
              <a:path fill="lightenLess" w="27775" h="21600">
                <a:moveTo>
                  <a:pt x="0" y="0"/>
                </a:moveTo>
                <a:lnTo>
                  <a:pt x="27775" y="0"/>
                </a:lnTo>
                <a:lnTo>
                  <a:pt x="26375" y="1400"/>
                </a:lnTo>
                <a:lnTo>
                  <a:pt x="1400" y="1400"/>
                </a:lnTo>
                <a:close/>
              </a:path>
              <a:path fill="darken" w="27775" h="21600">
                <a:moveTo>
                  <a:pt x="27775" y="0"/>
                </a:moveTo>
                <a:lnTo>
                  <a:pt x="27775" y="21600"/>
                </a:lnTo>
                <a:lnTo>
                  <a:pt x="26375" y="20200"/>
                </a:lnTo>
                <a:lnTo>
                  <a:pt x="26375" y="1400"/>
                </a:lnTo>
                <a:close/>
              </a:path>
              <a:path fill="darkenLess" w="27775" h="21600">
                <a:moveTo>
                  <a:pt x="2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5" y="20200"/>
                </a:lnTo>
                <a:close/>
              </a:path>
              <a:path fill="lighten" w="2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5" h="21600">
                <a:moveTo>
                  <a:pt x="6881" y="7493"/>
                </a:moveTo>
                <a:lnTo>
                  <a:pt x="10389" y="7493"/>
                </a:lnTo>
                <a:lnTo>
                  <a:pt x="10389" y="12828"/>
                </a:lnTo>
                <a:cubicBezTo>
                  <a:pt x="10389" y="13751"/>
                  <a:pt x="11189" y="14482"/>
                  <a:pt x="12225" y="14482"/>
                </a:cubicBezTo>
                <a:lnTo>
                  <a:pt x="13888" y="14482"/>
                </a:lnTo>
                <a:cubicBezTo>
                  <a:pt x="14923" y="14482"/>
                  <a:pt x="15724" y="13751"/>
                  <a:pt x="15724" y="12828"/>
                </a:cubicBezTo>
                <a:lnTo>
                  <a:pt x="15724" y="7493"/>
                </a:lnTo>
                <a:lnTo>
                  <a:pt x="13888" y="7493"/>
                </a:lnTo>
                <a:lnTo>
                  <a:pt x="17395" y="3985"/>
                </a:lnTo>
                <a:lnTo>
                  <a:pt x="21068" y="7493"/>
                </a:lnTo>
                <a:lnTo>
                  <a:pt x="19232" y="7493"/>
                </a:lnTo>
                <a:lnTo>
                  <a:pt x="19232" y="12828"/>
                </a:lnTo>
                <a:cubicBezTo>
                  <a:pt x="19232" y="15596"/>
                  <a:pt x="16655" y="18155"/>
                  <a:pt x="13888" y="18155"/>
                </a:cubicBezTo>
                <a:lnTo>
                  <a:pt x="12225" y="18155"/>
                </a:lnTo>
                <a:cubicBezTo>
                  <a:pt x="9457" y="18155"/>
                  <a:pt x="6881" y="15596"/>
                  <a:pt x="6881" y="12828"/>
                </a:cubicBez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BA78-2910-4186-9B7C-613C507E9FE2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-13680" y="-144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 Unicode MS"/>
                <a:ea typeface="Arial Unicode MS"/>
              </a:rPr>
              <a:t>References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474120" y="709560"/>
            <a:ext cx="25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You should refer to : 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23" name="Picture 16" descr=""/>
          <p:cNvPicPr/>
          <p:nvPr/>
        </p:nvPicPr>
        <p:blipFill>
          <a:blip r:embed="rId1"/>
          <a:stretch/>
        </p:blipFill>
        <p:spPr>
          <a:xfrm>
            <a:off x="1419120" y="1341360"/>
            <a:ext cx="7213680" cy="1800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4" name="Text Box 17"/>
          <p:cNvSpPr/>
          <p:nvPr/>
        </p:nvSpPr>
        <p:spPr>
          <a:xfrm>
            <a:off x="955080" y="1341360"/>
            <a:ext cx="46260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1]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948600" y="3357720"/>
            <a:ext cx="379728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 http://java.com/en/    for Java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949680" y="4149720"/>
            <a:ext cx="442188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3]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http://www.eclipse.org/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clipse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959400" y="4941720"/>
            <a:ext cx="781740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4] http://www.staticfreesoft.com/productsFree.html for GNU Electric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28" name="Picture 21" descr=""/>
          <p:cNvPicPr/>
          <p:nvPr/>
        </p:nvPicPr>
        <p:blipFill>
          <a:blip r:embed="rId2"/>
          <a:stretch/>
        </p:blipFill>
        <p:spPr>
          <a:xfrm>
            <a:off x="3814920" y="5445000"/>
            <a:ext cx="4314600" cy="657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9" name="Text Box 22"/>
          <p:cNvSpPr/>
          <p:nvPr/>
        </p:nvSpPr>
        <p:spPr>
          <a:xfrm>
            <a:off x="3816720" y="56070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✔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 rot="20588400">
            <a:off x="3136680" y="1911240"/>
            <a:ext cx="3688920" cy="642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 available yet!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09FE-5EBF-4E44-AC07-B29C66A35BA5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-153720" y="-1440"/>
            <a:ext cx="48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 Unicode MS"/>
                <a:ea typeface="Arial Unicode MS"/>
              </a:rPr>
              <a:t>01. Configuring the debug setup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289800" y="90000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1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235440" y="490680"/>
            <a:ext cx="330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Start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Debug Configurations …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400" name="Picture 5" descr=""/>
          <p:cNvPicPr/>
          <p:nvPr/>
        </p:nvPicPr>
        <p:blipFill>
          <a:blip r:embed="rId1"/>
          <a:stretch/>
        </p:blipFill>
        <p:spPr>
          <a:xfrm>
            <a:off x="1187280" y="900000"/>
            <a:ext cx="3086280" cy="1657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01" name="Picture 6" descr=""/>
          <p:cNvPicPr/>
          <p:nvPr/>
        </p:nvPicPr>
        <p:blipFill>
          <a:blip r:embed="rId2"/>
          <a:stretch/>
        </p:blipFill>
        <p:spPr>
          <a:xfrm>
            <a:off x="1187280" y="2708280"/>
            <a:ext cx="7677360" cy="3400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02" name="Oval 7"/>
          <p:cNvSpPr/>
          <p:nvPr/>
        </p:nvSpPr>
        <p:spPr>
          <a:xfrm>
            <a:off x="755640" y="3645000"/>
            <a:ext cx="1440000" cy="2872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FB61-B573-4C94-B1D4-09F3DD77707D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7620120" cy="470556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3"/>
          <p:cNvSpPr/>
          <p:nvPr/>
        </p:nvSpPr>
        <p:spPr>
          <a:xfrm>
            <a:off x="289800" y="90000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2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229320" y="490680"/>
            <a:ext cx="21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Setup configuration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7" name="Oval 6"/>
          <p:cNvSpPr/>
          <p:nvPr/>
        </p:nvSpPr>
        <p:spPr>
          <a:xfrm>
            <a:off x="2916360" y="1916280"/>
            <a:ext cx="1439640" cy="2872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8" name="Oval 7"/>
          <p:cNvSpPr/>
          <p:nvPr/>
        </p:nvSpPr>
        <p:spPr>
          <a:xfrm>
            <a:off x="2916360" y="3068640"/>
            <a:ext cx="2303280" cy="2872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9" name="Oval 8"/>
          <p:cNvSpPr/>
          <p:nvPr/>
        </p:nvSpPr>
        <p:spPr>
          <a:xfrm>
            <a:off x="6877080" y="4622760"/>
            <a:ext cx="1079640" cy="430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410" name="Picture 9" descr=""/>
          <p:cNvPicPr/>
          <p:nvPr/>
        </p:nvPicPr>
        <p:blipFill>
          <a:blip r:embed="rId2"/>
          <a:stretch/>
        </p:blipFill>
        <p:spPr>
          <a:xfrm>
            <a:off x="3059280" y="3705120"/>
            <a:ext cx="1752480" cy="269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11" name="Oval 10"/>
          <p:cNvSpPr/>
          <p:nvPr/>
        </p:nvSpPr>
        <p:spPr>
          <a:xfrm>
            <a:off x="3427560" y="5127480"/>
            <a:ext cx="1079280" cy="430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2" name="Freeform 11"/>
          <p:cNvSpPr/>
          <p:nvPr/>
        </p:nvSpPr>
        <p:spPr>
          <a:xfrm>
            <a:off x="1920960" y="3500280"/>
            <a:ext cx="1498680" cy="1800360"/>
          </a:xfrm>
          <a:custGeom>
            <a:avLst/>
            <a:gdLst>
              <a:gd name="textAreaLeft" fmla="*/ 0 w 1498680"/>
              <a:gd name="textAreaRight" fmla="*/ 1499040 w 149868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944" h="1134">
                <a:moveTo>
                  <a:pt x="173" y="0"/>
                </a:moveTo>
                <a:cubicBezTo>
                  <a:pt x="86" y="200"/>
                  <a:pt x="0" y="401"/>
                  <a:pt x="128" y="590"/>
                </a:cubicBezTo>
                <a:cubicBezTo>
                  <a:pt x="256" y="779"/>
                  <a:pt x="600" y="956"/>
                  <a:pt x="944" y="1134"/>
                </a:cubicBezTo>
              </a:path>
            </a:pathLst>
          </a:custGeom>
          <a:noFill/>
          <a:ln w="5724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6B96-E2C6-455E-AB89-5920A78D06D7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289800" y="90000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3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231480" y="490680"/>
            <a:ext cx="304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Set break point(s) as needed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1128600" y="909720"/>
            <a:ext cx="7115400" cy="50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17" name="Oval 5"/>
          <p:cNvSpPr/>
          <p:nvPr/>
        </p:nvSpPr>
        <p:spPr>
          <a:xfrm>
            <a:off x="971640" y="2421000"/>
            <a:ext cx="1079280" cy="430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A8EC-E1CA-41FB-8B64-49B508F7974E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289800" y="76500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1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234720" y="355680"/>
            <a:ext cx="559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Change the perspective to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Debug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and start the debugger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421" name="Picture 4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6800760" cy="4562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"/>
          <p:cNvPicPr/>
          <p:nvPr/>
        </p:nvPicPr>
        <p:blipFill>
          <a:blip r:embed="rId2"/>
          <a:stretch/>
        </p:blipFill>
        <p:spPr>
          <a:xfrm>
            <a:off x="1187280" y="773280"/>
            <a:ext cx="2124360" cy="1143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23" name="Text Box 6"/>
          <p:cNvSpPr/>
          <p:nvPr/>
        </p:nvSpPr>
        <p:spPr>
          <a:xfrm>
            <a:off x="-97560" y="-144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 Unicode MS"/>
                <a:ea typeface="Arial Unicode MS"/>
              </a:rPr>
              <a:t>02. Start the debugger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4" name="Oval 7"/>
          <p:cNvSpPr/>
          <p:nvPr/>
        </p:nvSpPr>
        <p:spPr>
          <a:xfrm>
            <a:off x="7237440" y="5950080"/>
            <a:ext cx="1295280" cy="5760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0CC7-0350-4C2E-9B05-1F0F56A71B42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289800" y="76500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2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233640" y="355680"/>
            <a:ext cx="54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Confirm that GNU Electric has started in a debug mode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428" name="Picture 4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6039000" cy="3162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29" name="Picture 5" descr=""/>
          <p:cNvPicPr/>
          <p:nvPr/>
        </p:nvPicPr>
        <p:blipFill>
          <a:blip r:embed="rId2"/>
          <a:stretch/>
        </p:blipFill>
        <p:spPr>
          <a:xfrm>
            <a:off x="2876400" y="3666960"/>
            <a:ext cx="5943600" cy="2714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30" name="Oval 6"/>
          <p:cNvSpPr/>
          <p:nvPr/>
        </p:nvSpPr>
        <p:spPr>
          <a:xfrm>
            <a:off x="684360" y="2205000"/>
            <a:ext cx="5182920" cy="146196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4B26-04EA-4AA9-9688-92404E3A82E5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289800" y="90000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3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232200" y="490680"/>
            <a:ext cx="60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Load the same library and open the same layout cell as before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434" name="Picture 6" descr=""/>
          <p:cNvPicPr/>
          <p:nvPr/>
        </p:nvPicPr>
        <p:blipFill>
          <a:blip r:embed="rId1"/>
          <a:stretch/>
        </p:blipFill>
        <p:spPr>
          <a:xfrm>
            <a:off x="1116000" y="900000"/>
            <a:ext cx="5616720" cy="557856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7"/>
          <p:cNvSpPr/>
          <p:nvPr/>
        </p:nvSpPr>
        <p:spPr>
          <a:xfrm>
            <a:off x="6843600" y="5516640"/>
            <a:ext cx="1646280" cy="368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ooks OK!</a:t>
            </a:r>
            <a:endParaRPr b="1" lang="en-US" sz="1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D445-A84A-4305-8598-8ED173DF4433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289800" y="69516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4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229320" y="2840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Run NCC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439" name="Picture 4" descr=""/>
          <p:cNvPicPr/>
          <p:nvPr/>
        </p:nvPicPr>
        <p:blipFill>
          <a:blip r:embed="rId1"/>
          <a:stretch/>
        </p:blipFill>
        <p:spPr>
          <a:xfrm>
            <a:off x="1187280" y="695160"/>
            <a:ext cx="5276880" cy="3343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40" name="Text Box 6"/>
          <p:cNvSpPr/>
          <p:nvPr/>
        </p:nvSpPr>
        <p:spPr>
          <a:xfrm>
            <a:off x="1187280" y="5210280"/>
            <a:ext cx="1646280" cy="368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ooks OK!</a:t>
            </a:r>
            <a:endParaRPr b="1" lang="en-US" sz="1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1" name="AutoShape 7"/>
          <p:cNvSpPr/>
          <p:nvPr/>
        </p:nvSpPr>
        <p:spPr>
          <a:xfrm rot="5400000">
            <a:off x="1871640" y="4237200"/>
            <a:ext cx="1008000" cy="792000"/>
          </a:xfrm>
          <a:custGeom>
            <a:avLst/>
            <a:gdLst>
              <a:gd name="textAreaLeft" fmla="*/ 0 w 1008000"/>
              <a:gd name="textAreaRight" fmla="*/ 864000 w 1008000"/>
              <a:gd name="textAreaTop" fmla="*/ 52812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442" name="Picture 8" descr=""/>
          <p:cNvPicPr/>
          <p:nvPr/>
        </p:nvPicPr>
        <p:blipFill>
          <a:blip r:embed="rId2"/>
          <a:stretch/>
        </p:blipFill>
        <p:spPr>
          <a:xfrm>
            <a:off x="2898720" y="2724120"/>
            <a:ext cx="6210360" cy="3657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48CE-38F8-461F-B109-19E1A68A620C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4" name="Text Box 2"/>
          <p:cNvSpPr/>
          <p:nvPr/>
        </p:nvSpPr>
        <p:spPr>
          <a:xfrm>
            <a:off x="289800" y="45576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5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229320" y="442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Run DRC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1"/>
          <a:stretch/>
        </p:blipFill>
        <p:spPr>
          <a:xfrm>
            <a:off x="1187280" y="455760"/>
            <a:ext cx="4077000" cy="2990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47" name="AutoShape 5"/>
          <p:cNvSpPr/>
          <p:nvPr/>
        </p:nvSpPr>
        <p:spPr>
          <a:xfrm rot="5400000">
            <a:off x="1078920" y="3608280"/>
            <a:ext cx="1008360" cy="792360"/>
          </a:xfrm>
          <a:custGeom>
            <a:avLst/>
            <a:gdLst>
              <a:gd name="textAreaLeft" fmla="*/ 0 w 1008360"/>
              <a:gd name="textAreaRight" fmla="*/ 864360 w 1008360"/>
              <a:gd name="textAreaTop" fmla="*/ 52848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179280" y="4508640"/>
            <a:ext cx="1646280" cy="1739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ception has been caught and the program has stopped at the break point.</a:t>
            </a:r>
            <a:endParaRPr b="1" lang="en-US" sz="1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449" name="Picture 8" descr=""/>
          <p:cNvPicPr/>
          <p:nvPr/>
        </p:nvPicPr>
        <p:blipFill>
          <a:blip r:embed="rId2"/>
          <a:stretch/>
        </p:blipFill>
        <p:spPr>
          <a:xfrm>
            <a:off x="2016000" y="3860640"/>
            <a:ext cx="7020000" cy="2343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DB4D-02C5-4863-9B18-D5A5820370A9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5105520" cy="342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52" name="Text Box 3"/>
          <p:cNvSpPr/>
          <p:nvPr/>
        </p:nvSpPr>
        <p:spPr>
          <a:xfrm>
            <a:off x="289800" y="45576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6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230040" y="44280"/>
            <a:ext cx="209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Inspect variable(s)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1114560" y="4076640"/>
            <a:ext cx="5113080" cy="368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his is what the author wanted to do!</a:t>
            </a:r>
            <a:endParaRPr b="1" lang="en-US" sz="1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7D11-2316-4296-B015-391326DD0D72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289800" y="45576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7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229680" y="44280"/>
            <a:ext cx="246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Resume the execution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458" name="Picture 4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2409840" cy="1590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59" name="Picture 5" descr=""/>
          <p:cNvPicPr/>
          <p:nvPr/>
        </p:nvPicPr>
        <p:blipFill>
          <a:blip r:embed="rId2"/>
          <a:stretch/>
        </p:blipFill>
        <p:spPr>
          <a:xfrm>
            <a:off x="3132000" y="1214280"/>
            <a:ext cx="5929560" cy="5187960"/>
          </a:xfrm>
          <a:prstGeom prst="rect">
            <a:avLst/>
          </a:prstGeom>
          <a:ln w="0">
            <a:noFill/>
          </a:ln>
        </p:spPr>
      </p:pic>
      <p:sp>
        <p:nvSpPr>
          <p:cNvPr id="460" name="AutoShape 6"/>
          <p:cNvSpPr/>
          <p:nvPr/>
        </p:nvSpPr>
        <p:spPr>
          <a:xfrm rot="5400000">
            <a:off x="2023560" y="2306520"/>
            <a:ext cx="1008360" cy="792360"/>
          </a:xfrm>
          <a:custGeom>
            <a:avLst/>
            <a:gdLst>
              <a:gd name="textAreaLeft" fmla="*/ 0 w 1008360"/>
              <a:gd name="textAreaRight" fmla="*/ 864360 w 1008360"/>
              <a:gd name="textAreaTop" fmla="*/ 52848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1" name="Text Box 7"/>
          <p:cNvSpPr/>
          <p:nvPr/>
        </p:nvSpPr>
        <p:spPr>
          <a:xfrm>
            <a:off x="1341360" y="3206880"/>
            <a:ext cx="1646280" cy="642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ception has been caught!</a:t>
            </a:r>
            <a:endParaRPr b="1" lang="en-US" sz="1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2" name="Oval 8"/>
          <p:cNvSpPr/>
          <p:nvPr/>
        </p:nvSpPr>
        <p:spPr>
          <a:xfrm>
            <a:off x="1908000" y="836640"/>
            <a:ext cx="1079640" cy="430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66BD-236B-4548-AE54-12EB4F0BB537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80000" y="26028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Index</a:t>
            </a:r>
            <a:endParaRPr b="1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59560" y="1297080"/>
            <a:ext cx="8818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art-I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Setting up Software Development Environment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art-II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Creating a New Project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art-III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Building the New Project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art-IV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Debugging GNU Electric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1690560" y="1339920"/>
            <a:ext cx="441360" cy="360360"/>
          </a:xfrm>
          <a:custGeom>
            <a:avLst/>
            <a:gdLst>
              <a:gd name="textAreaLeft" fmla="*/ 23040 w 441360"/>
              <a:gd name="textAreaRight" fmla="*/ 418320 w 441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6450" h="21600">
                <a:moveTo>
                  <a:pt x="0" y="0"/>
                </a:moveTo>
                <a:lnTo>
                  <a:pt x="26450" y="0"/>
                </a:lnTo>
                <a:lnTo>
                  <a:pt x="26450" y="21600"/>
                </a:lnTo>
                <a:lnTo>
                  <a:pt x="0" y="21600"/>
                </a:lnTo>
                <a:close/>
              </a:path>
              <a:path fill="lightenLess" w="26450" h="21600">
                <a:moveTo>
                  <a:pt x="0" y="0"/>
                </a:moveTo>
                <a:lnTo>
                  <a:pt x="26450" y="0"/>
                </a:lnTo>
                <a:lnTo>
                  <a:pt x="25050" y="1400"/>
                </a:lnTo>
                <a:lnTo>
                  <a:pt x="1400" y="1400"/>
                </a:lnTo>
                <a:close/>
              </a:path>
              <a:path fill="darken" w="26450" h="21600">
                <a:moveTo>
                  <a:pt x="26450" y="0"/>
                </a:moveTo>
                <a:lnTo>
                  <a:pt x="26450" y="21600"/>
                </a:lnTo>
                <a:lnTo>
                  <a:pt x="25050" y="20200"/>
                </a:lnTo>
                <a:lnTo>
                  <a:pt x="25050" y="1400"/>
                </a:lnTo>
                <a:close/>
              </a:path>
              <a:path fill="darkenLess" w="26450" h="21600">
                <a:moveTo>
                  <a:pt x="26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50" y="20200"/>
                </a:lnTo>
                <a:close/>
              </a:path>
              <a:path fill="lighten" w="26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50" h="21600">
                <a:moveTo>
                  <a:pt x="6219" y="3794"/>
                </a:moveTo>
                <a:lnTo>
                  <a:pt x="20232" y="10800"/>
                </a:lnTo>
                <a:lnTo>
                  <a:pt x="6219" y="17806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1690560" y="2060640"/>
            <a:ext cx="441360" cy="360360"/>
          </a:xfrm>
          <a:custGeom>
            <a:avLst/>
            <a:gdLst>
              <a:gd name="textAreaLeft" fmla="*/ 23040 w 441360"/>
              <a:gd name="textAreaRight" fmla="*/ 418320 w 441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6450" h="21600">
                <a:moveTo>
                  <a:pt x="0" y="0"/>
                </a:moveTo>
                <a:lnTo>
                  <a:pt x="26450" y="0"/>
                </a:lnTo>
                <a:lnTo>
                  <a:pt x="26450" y="21600"/>
                </a:lnTo>
                <a:lnTo>
                  <a:pt x="0" y="21600"/>
                </a:lnTo>
                <a:close/>
              </a:path>
              <a:path fill="lightenLess" w="26450" h="21600">
                <a:moveTo>
                  <a:pt x="0" y="0"/>
                </a:moveTo>
                <a:lnTo>
                  <a:pt x="26450" y="0"/>
                </a:lnTo>
                <a:lnTo>
                  <a:pt x="25050" y="1400"/>
                </a:lnTo>
                <a:lnTo>
                  <a:pt x="1400" y="1400"/>
                </a:lnTo>
                <a:close/>
              </a:path>
              <a:path fill="darken" w="26450" h="21600">
                <a:moveTo>
                  <a:pt x="26450" y="0"/>
                </a:moveTo>
                <a:lnTo>
                  <a:pt x="26450" y="21600"/>
                </a:lnTo>
                <a:lnTo>
                  <a:pt x="25050" y="20200"/>
                </a:lnTo>
                <a:lnTo>
                  <a:pt x="25050" y="1400"/>
                </a:lnTo>
                <a:close/>
              </a:path>
              <a:path fill="darkenLess" w="26450" h="21600">
                <a:moveTo>
                  <a:pt x="26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50" y="20200"/>
                </a:lnTo>
                <a:close/>
              </a:path>
              <a:path fill="lighten" w="26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50" h="21600">
                <a:moveTo>
                  <a:pt x="6219" y="3794"/>
                </a:moveTo>
                <a:lnTo>
                  <a:pt x="20232" y="10800"/>
                </a:lnTo>
                <a:lnTo>
                  <a:pt x="6219" y="17806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1690560" y="2854440"/>
            <a:ext cx="441360" cy="360360"/>
          </a:xfrm>
          <a:custGeom>
            <a:avLst/>
            <a:gdLst>
              <a:gd name="textAreaLeft" fmla="*/ 23040 w 441360"/>
              <a:gd name="textAreaRight" fmla="*/ 418320 w 441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6450" h="21600">
                <a:moveTo>
                  <a:pt x="0" y="0"/>
                </a:moveTo>
                <a:lnTo>
                  <a:pt x="26450" y="0"/>
                </a:lnTo>
                <a:lnTo>
                  <a:pt x="26450" y="21600"/>
                </a:lnTo>
                <a:lnTo>
                  <a:pt x="0" y="21600"/>
                </a:lnTo>
                <a:close/>
              </a:path>
              <a:path fill="lightenLess" w="26450" h="21600">
                <a:moveTo>
                  <a:pt x="0" y="0"/>
                </a:moveTo>
                <a:lnTo>
                  <a:pt x="26450" y="0"/>
                </a:lnTo>
                <a:lnTo>
                  <a:pt x="25050" y="1400"/>
                </a:lnTo>
                <a:lnTo>
                  <a:pt x="1400" y="1400"/>
                </a:lnTo>
                <a:close/>
              </a:path>
              <a:path fill="darken" w="26450" h="21600">
                <a:moveTo>
                  <a:pt x="26450" y="0"/>
                </a:moveTo>
                <a:lnTo>
                  <a:pt x="26450" y="21600"/>
                </a:lnTo>
                <a:lnTo>
                  <a:pt x="25050" y="20200"/>
                </a:lnTo>
                <a:lnTo>
                  <a:pt x="25050" y="1400"/>
                </a:lnTo>
                <a:close/>
              </a:path>
              <a:path fill="darkenLess" w="26450" h="21600">
                <a:moveTo>
                  <a:pt x="26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50" y="20200"/>
                </a:lnTo>
                <a:close/>
              </a:path>
              <a:path fill="lighten" w="26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50" h="21600">
                <a:moveTo>
                  <a:pt x="6219" y="3794"/>
                </a:moveTo>
                <a:lnTo>
                  <a:pt x="20232" y="10800"/>
                </a:lnTo>
                <a:lnTo>
                  <a:pt x="6219" y="17806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1690560" y="3537000"/>
            <a:ext cx="441360" cy="360360"/>
          </a:xfrm>
          <a:custGeom>
            <a:avLst/>
            <a:gdLst>
              <a:gd name="textAreaLeft" fmla="*/ 23040 w 441360"/>
              <a:gd name="textAreaRight" fmla="*/ 418320 w 441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6450" h="21600">
                <a:moveTo>
                  <a:pt x="0" y="0"/>
                </a:moveTo>
                <a:lnTo>
                  <a:pt x="26450" y="0"/>
                </a:lnTo>
                <a:lnTo>
                  <a:pt x="26450" y="21600"/>
                </a:lnTo>
                <a:lnTo>
                  <a:pt x="0" y="21600"/>
                </a:lnTo>
                <a:close/>
              </a:path>
              <a:path fill="lightenLess" w="26450" h="21600">
                <a:moveTo>
                  <a:pt x="0" y="0"/>
                </a:moveTo>
                <a:lnTo>
                  <a:pt x="26450" y="0"/>
                </a:lnTo>
                <a:lnTo>
                  <a:pt x="25050" y="1400"/>
                </a:lnTo>
                <a:lnTo>
                  <a:pt x="1400" y="1400"/>
                </a:lnTo>
                <a:close/>
              </a:path>
              <a:path fill="darken" w="26450" h="21600">
                <a:moveTo>
                  <a:pt x="26450" y="0"/>
                </a:moveTo>
                <a:lnTo>
                  <a:pt x="26450" y="21600"/>
                </a:lnTo>
                <a:lnTo>
                  <a:pt x="25050" y="20200"/>
                </a:lnTo>
                <a:lnTo>
                  <a:pt x="25050" y="1400"/>
                </a:lnTo>
                <a:close/>
              </a:path>
              <a:path fill="darkenLess" w="26450" h="21600">
                <a:moveTo>
                  <a:pt x="26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50" y="20200"/>
                </a:lnTo>
                <a:close/>
              </a:path>
              <a:path fill="lighten" w="26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50" h="21600">
                <a:moveTo>
                  <a:pt x="6219" y="3794"/>
                </a:moveTo>
                <a:lnTo>
                  <a:pt x="20232" y="10800"/>
                </a:lnTo>
                <a:lnTo>
                  <a:pt x="6219" y="17806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C758-80B6-4495-B2A8-E4B610651981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781680" cy="343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5" name="Text Box 3"/>
          <p:cNvSpPr/>
          <p:nvPr/>
        </p:nvSpPr>
        <p:spPr>
          <a:xfrm>
            <a:off x="1116000" y="4292640"/>
            <a:ext cx="5689440" cy="368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e same exception has also been caught by Eclipse</a:t>
            </a:r>
            <a:endParaRPr b="1" lang="en-US" sz="1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289800" y="695160"/>
            <a:ext cx="6760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 08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227520" y="284040"/>
            <a:ext cx="47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Check the console of Eclipse debug perspective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B0D0-B7D5-4817-AAEF-1FAC10FAAE48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-35280" y="-1440"/>
            <a:ext cx="19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660033"/>
                </a:solidFill>
                <a:latin typeface="Arial Unicode MS"/>
                <a:ea typeface="Arial Unicode MS"/>
              </a:rPr>
              <a:t>Summary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395280" y="593640"/>
            <a:ext cx="8424720" cy="30200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NU Electric version 8.08 was built from its source code by using Java SDK and Eclipse 3.4.2 (Ganymede).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457200" indent="-45720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457200" indent="-45720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newly built GNU Electric was source-code-debugged on the Eclipse workbench.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457200" indent="-45720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457200" indent="-45720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uch capability of debugging will help us debug a user-defined Technology File.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7020720" y="602136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[The End of File]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B092-4036-4B19-A901-F4002CF2066D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826920" y="2349360"/>
            <a:ext cx="75819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ＭＳ Ｐゴシック"/>
              </a:rPr>
              <a:t>Part-I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ＭＳ Ｐゴシック"/>
              </a:rPr>
              <a:t>Setting up Software Development Environment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ＭＳ Ｐゴシック"/>
              <a:ea typeface="ＭＳ Ｐゴシック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8317080" y="5805360"/>
            <a:ext cx="741240" cy="576360"/>
          </a:xfrm>
          <a:custGeom>
            <a:avLst/>
            <a:gdLst>
              <a:gd name="textAreaLeft" fmla="*/ 37080 w 741240"/>
              <a:gd name="textAreaRight" fmla="*/ 704160 w 7412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775" h="21600">
                <a:moveTo>
                  <a:pt x="0" y="0"/>
                </a:moveTo>
                <a:lnTo>
                  <a:pt x="27775" y="0"/>
                </a:lnTo>
                <a:lnTo>
                  <a:pt x="27775" y="21600"/>
                </a:lnTo>
                <a:lnTo>
                  <a:pt x="0" y="21600"/>
                </a:lnTo>
                <a:close/>
              </a:path>
              <a:path fill="lightenLess" w="27775" h="21600">
                <a:moveTo>
                  <a:pt x="0" y="0"/>
                </a:moveTo>
                <a:lnTo>
                  <a:pt x="27775" y="0"/>
                </a:lnTo>
                <a:lnTo>
                  <a:pt x="26375" y="1400"/>
                </a:lnTo>
                <a:lnTo>
                  <a:pt x="1400" y="1400"/>
                </a:lnTo>
                <a:close/>
              </a:path>
              <a:path fill="darken" w="27775" h="21600">
                <a:moveTo>
                  <a:pt x="27775" y="0"/>
                </a:moveTo>
                <a:lnTo>
                  <a:pt x="27775" y="21600"/>
                </a:lnTo>
                <a:lnTo>
                  <a:pt x="26375" y="20200"/>
                </a:lnTo>
                <a:lnTo>
                  <a:pt x="26375" y="1400"/>
                </a:lnTo>
                <a:close/>
              </a:path>
              <a:path fill="darkenLess" w="27775" h="21600">
                <a:moveTo>
                  <a:pt x="2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5" y="20200"/>
                </a:lnTo>
                <a:close/>
              </a:path>
              <a:path fill="lighten" w="2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5" h="21600">
                <a:moveTo>
                  <a:pt x="6881" y="7493"/>
                </a:moveTo>
                <a:lnTo>
                  <a:pt x="10389" y="7493"/>
                </a:lnTo>
                <a:lnTo>
                  <a:pt x="10389" y="12828"/>
                </a:lnTo>
                <a:cubicBezTo>
                  <a:pt x="10389" y="13751"/>
                  <a:pt x="11189" y="14482"/>
                  <a:pt x="12225" y="14482"/>
                </a:cubicBezTo>
                <a:lnTo>
                  <a:pt x="13888" y="14482"/>
                </a:lnTo>
                <a:cubicBezTo>
                  <a:pt x="14923" y="14482"/>
                  <a:pt x="15724" y="13751"/>
                  <a:pt x="15724" y="12828"/>
                </a:cubicBezTo>
                <a:lnTo>
                  <a:pt x="15724" y="7493"/>
                </a:lnTo>
                <a:lnTo>
                  <a:pt x="13888" y="7493"/>
                </a:lnTo>
                <a:lnTo>
                  <a:pt x="17395" y="3985"/>
                </a:lnTo>
                <a:lnTo>
                  <a:pt x="21068" y="7493"/>
                </a:lnTo>
                <a:lnTo>
                  <a:pt x="19232" y="7493"/>
                </a:lnTo>
                <a:lnTo>
                  <a:pt x="19232" y="12828"/>
                </a:lnTo>
                <a:cubicBezTo>
                  <a:pt x="19232" y="15596"/>
                  <a:pt x="16655" y="18155"/>
                  <a:pt x="13888" y="18155"/>
                </a:cubicBezTo>
                <a:lnTo>
                  <a:pt x="12225" y="18155"/>
                </a:lnTo>
                <a:cubicBezTo>
                  <a:pt x="9457" y="18155"/>
                  <a:pt x="6881" y="15596"/>
                  <a:pt x="6881" y="12828"/>
                </a:cubicBez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DD4F-0ED3-419F-9F67-1755270A9BF4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560" y="-1440"/>
            <a:ext cx="38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 Unicode MS"/>
                <a:ea typeface="Arial Unicode MS"/>
              </a:rPr>
              <a:t>01. Java Runtime and SDK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321840" y="455760"/>
            <a:ext cx="67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The tools listed below are assumed as Java development environment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44520" y="880920"/>
          <a:ext cx="8548560" cy="3700440"/>
        </p:xfrm>
        <a:graphic>
          <a:graphicData uri="http://schemas.openxmlformats.org/drawingml/2006/table">
            <a:tbl>
              <a:tblPr/>
              <a:tblGrid>
                <a:gridCol w="1779480"/>
                <a:gridCol w="2160720"/>
                <a:gridCol w="460836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ol</a:t>
                      </a:r>
                      <a:endParaRPr b="1" lang="en-US" sz="1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sion</a:t>
                      </a:r>
                      <a:endParaRPr b="1" lang="en-US" sz="1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l location</a:t>
                      </a:r>
                      <a:endParaRPr b="1" lang="en-US" sz="1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1" lang="en-US" sz="1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dows XP SP3</a:t>
                      </a:r>
                      <a:endParaRPr b="1" lang="en-US" sz="1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ese</a:t>
                      </a:r>
                      <a:endParaRPr b="1" lang="en-US" sz="1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:</a:t>
                      </a: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\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dows   </a:t>
                      </a:r>
                      <a:endParaRPr b="1" lang="en-US" sz="1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cc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66cc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800" spc="-1" strike="noStrike">
                          <a:solidFill>
                            <a:srgbClr val="66c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66ccff"/>
                          </a:solidFill>
                          <a:latin typeface="Times New Roman"/>
                        </a:rPr>
                        <a:t>this may look like</a:t>
                      </a:r>
                      <a:endParaRPr b="1" lang="en-US" sz="1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 Runtime</a:t>
                      </a:r>
                      <a:endParaRPr b="1" lang="en-US" sz="1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 6 </a:t>
                      </a:r>
                      <a:endParaRPr b="1" lang="en-US" sz="1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date 13</a:t>
                      </a:r>
                      <a:endParaRPr b="1" lang="en-US" sz="1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:\Program Files\Java\jre6\</a:t>
                      </a:r>
                      <a:endParaRPr b="1" lang="en-US" sz="1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 3D</a:t>
                      </a:r>
                      <a:endParaRPr b="1" lang="en-US" sz="1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.2</a:t>
                      </a:r>
                      <a:endParaRPr b="1" lang="en-US" sz="1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:\Program Files\Java\Java3D\1.5.2\</a:t>
                      </a:r>
                      <a:endParaRPr b="1" lang="en-US" sz="1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 SDK</a:t>
                      </a:r>
                      <a:endParaRPr b="1" lang="en-US" sz="1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 SED Kit 6</a:t>
                      </a:r>
                      <a:endParaRPr b="1" lang="en-US" sz="1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date 13</a:t>
                      </a:r>
                      <a:endParaRPr b="1" lang="en-US" sz="1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:\Program Files\Java\jdk1.6.0_13\</a:t>
                      </a:r>
                      <a:endParaRPr b="1" lang="en-US" sz="1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5" name="Picture 77" descr=""/>
          <p:cNvPicPr/>
          <p:nvPr/>
        </p:nvPicPr>
        <p:blipFill>
          <a:blip r:embed="rId1"/>
          <a:stretch/>
        </p:blipFill>
        <p:spPr>
          <a:xfrm>
            <a:off x="6665760" y="1695600"/>
            <a:ext cx="1514520" cy="476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146" name="Group 99"/>
          <p:cNvGrpSpPr/>
          <p:nvPr/>
        </p:nvGrpSpPr>
        <p:grpSpPr>
          <a:xfrm>
            <a:off x="344520" y="4876920"/>
            <a:ext cx="8548560" cy="916920"/>
            <a:chOff x="344520" y="4876920"/>
            <a:chExt cx="8548560" cy="916920"/>
          </a:xfrm>
        </p:grpSpPr>
        <p:sp>
          <p:nvSpPr>
            <p:cNvPr id="147" name="Text Box 60"/>
            <p:cNvSpPr/>
            <p:nvPr/>
          </p:nvSpPr>
          <p:spPr>
            <a:xfrm>
              <a:off x="344520" y="4876920"/>
              <a:ext cx="8548560" cy="916920"/>
            </a:xfrm>
            <a:prstGeom prst="rect">
              <a:avLst/>
            </a:prstGeom>
            <a:noFill/>
            <a:ln w="1260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The images were captured on Japanese Windows throughout this document. Therefore, wherever you see a Yen mark      in a file path, please understand that it corresponds to a “back slash” character in the non-Japanese world.</a:t>
              </a:r>
              <a:endParaRPr b="1" lang="en-US" sz="1800" spc="-1" strike="noStrike">
                <a:solidFill>
                  <a:srgbClr val="660033"/>
                </a:solidFill>
                <a:latin typeface="Arial"/>
              </a:endParaRPr>
            </a:p>
          </p:txBody>
        </p:sp>
        <p:pic>
          <p:nvPicPr>
            <p:cNvPr id="148" name="Picture 78" descr=""/>
            <p:cNvPicPr/>
            <p:nvPr/>
          </p:nvPicPr>
          <p:blipFill>
            <a:blip r:embed="rId2"/>
            <a:stretch/>
          </p:blipFill>
          <p:spPr>
            <a:xfrm>
              <a:off x="4619520" y="5194440"/>
              <a:ext cx="257400" cy="314280"/>
            </a:xfrm>
            <a:prstGeom prst="rect">
              <a:avLst/>
            </a:prstGeom>
            <a:ln w="12600">
              <a:solidFill>
                <a:srgbClr val="cc0099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94F8-EBDB-4883-BFD3-036CE43368C9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750960" y="657360"/>
            <a:ext cx="5476680" cy="1143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3564000" y="1979640"/>
            <a:ext cx="5448240" cy="219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2" name="AutoShape 7"/>
          <p:cNvSpPr/>
          <p:nvPr/>
        </p:nvSpPr>
        <p:spPr>
          <a:xfrm>
            <a:off x="468360" y="1125360"/>
            <a:ext cx="216000" cy="574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4920"/>
              <a:gd name="textAreaBottom" fmla="*/ 560160 h 5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3232080" y="3529080"/>
            <a:ext cx="216000" cy="5745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4560"/>
              <a:gd name="textAreaBottom" fmla="*/ 559800 h 57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3567240" y="3529080"/>
            <a:ext cx="5445000" cy="574560"/>
          </a:xfrm>
          <a:prstGeom prst="rect">
            <a:avLst/>
          </a:prstGeom>
          <a:solidFill>
            <a:srgbClr val="ff99cc">
              <a:alpha val="3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750960" y="1125360"/>
            <a:ext cx="5445000" cy="574920"/>
          </a:xfrm>
          <a:prstGeom prst="rect">
            <a:avLst/>
          </a:prstGeom>
          <a:solidFill>
            <a:srgbClr val="ff99cc">
              <a:alpha val="3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322920" y="139680"/>
            <a:ext cx="599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Customization of Java environment made for my convenience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273240" y="2511360"/>
            <a:ext cx="53150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Manually copied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--- for some reasons; cannot remember ;-(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8" name="Oval 15"/>
          <p:cNvSpPr/>
          <p:nvPr/>
        </p:nvSpPr>
        <p:spPr>
          <a:xfrm>
            <a:off x="611280" y="549360"/>
            <a:ext cx="3744720" cy="40932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" name="Oval 16"/>
          <p:cNvSpPr/>
          <p:nvPr/>
        </p:nvSpPr>
        <p:spPr>
          <a:xfrm>
            <a:off x="3203640" y="2060640"/>
            <a:ext cx="3744720" cy="4096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60" name="Picture 17" descr=""/>
          <p:cNvPicPr/>
          <p:nvPr/>
        </p:nvPicPr>
        <p:blipFill>
          <a:blip r:embed="rId3"/>
          <a:stretch/>
        </p:blipFill>
        <p:spPr>
          <a:xfrm>
            <a:off x="749160" y="5084640"/>
            <a:ext cx="648684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1" name="Text Box 18"/>
          <p:cNvSpPr/>
          <p:nvPr/>
        </p:nvSpPr>
        <p:spPr>
          <a:xfrm>
            <a:off x="662040" y="4292640"/>
            <a:ext cx="81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The modified “build.xml” file embedded in slide #26         reflects this organization as shown below.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2" name="AutoShape 20"/>
          <p:cNvSpPr/>
          <p:nvPr/>
        </p:nvSpPr>
        <p:spPr>
          <a:xfrm>
            <a:off x="7035840" y="4311720"/>
            <a:ext cx="441360" cy="360360"/>
          </a:xfrm>
          <a:custGeom>
            <a:avLst/>
            <a:gdLst>
              <a:gd name="textAreaLeft" fmla="*/ 23040 w 441360"/>
              <a:gd name="textAreaRight" fmla="*/ 418320 w 441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6450" h="21600">
                <a:moveTo>
                  <a:pt x="0" y="0"/>
                </a:moveTo>
                <a:lnTo>
                  <a:pt x="26450" y="0"/>
                </a:lnTo>
                <a:lnTo>
                  <a:pt x="26450" y="21600"/>
                </a:lnTo>
                <a:lnTo>
                  <a:pt x="0" y="21600"/>
                </a:lnTo>
                <a:close/>
              </a:path>
              <a:path fill="lightenLess" w="26450" h="21600">
                <a:moveTo>
                  <a:pt x="0" y="0"/>
                </a:moveTo>
                <a:lnTo>
                  <a:pt x="26450" y="0"/>
                </a:lnTo>
                <a:lnTo>
                  <a:pt x="25050" y="1400"/>
                </a:lnTo>
                <a:lnTo>
                  <a:pt x="1400" y="1400"/>
                </a:lnTo>
                <a:close/>
              </a:path>
              <a:path fill="darken" w="26450" h="21600">
                <a:moveTo>
                  <a:pt x="26450" y="0"/>
                </a:moveTo>
                <a:lnTo>
                  <a:pt x="26450" y="21600"/>
                </a:lnTo>
                <a:lnTo>
                  <a:pt x="25050" y="20200"/>
                </a:lnTo>
                <a:lnTo>
                  <a:pt x="25050" y="1400"/>
                </a:lnTo>
                <a:close/>
              </a:path>
              <a:path fill="darkenLess" w="26450" h="21600">
                <a:moveTo>
                  <a:pt x="26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50" y="20200"/>
                </a:lnTo>
                <a:close/>
              </a:path>
              <a:path fill="lighten" w="26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50" h="21600">
                <a:moveTo>
                  <a:pt x="6219" y="3794"/>
                </a:moveTo>
                <a:lnTo>
                  <a:pt x="20232" y="10800"/>
                </a:lnTo>
                <a:lnTo>
                  <a:pt x="6219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3" name="Freeform 13"/>
          <p:cNvSpPr/>
          <p:nvPr/>
        </p:nvSpPr>
        <p:spPr>
          <a:xfrm>
            <a:off x="155520" y="1413000"/>
            <a:ext cx="2976480" cy="2376360"/>
          </a:xfrm>
          <a:custGeom>
            <a:avLst/>
            <a:gdLst>
              <a:gd name="textAreaLeft" fmla="*/ 0 w 2976480"/>
              <a:gd name="textAreaRight" fmla="*/ 2976840 w 2976480"/>
              <a:gd name="textAreaTop" fmla="*/ 0 h 2376360"/>
              <a:gd name="textAreaBottom" fmla="*/ 2376720 h 2376360"/>
            </a:gdLst>
            <a:ahLst/>
            <a:rect l="textAreaLeft" t="textAreaTop" r="textAreaRight" b="textAreaBottom"/>
            <a:pathLst>
              <a:path w="1875" h="1497">
                <a:moveTo>
                  <a:pt x="197" y="0"/>
                </a:moveTo>
                <a:cubicBezTo>
                  <a:pt x="98" y="351"/>
                  <a:pt x="0" y="703"/>
                  <a:pt x="60" y="907"/>
                </a:cubicBezTo>
                <a:cubicBezTo>
                  <a:pt x="120" y="1111"/>
                  <a:pt x="257" y="1127"/>
                  <a:pt x="559" y="1225"/>
                </a:cubicBezTo>
                <a:cubicBezTo>
                  <a:pt x="861" y="1323"/>
                  <a:pt x="1368" y="1410"/>
                  <a:pt x="1875" y="1497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liennummernplatzhalter 1"/>
          <p:cNvSpPr/>
          <p:nvPr/>
        </p:nvSpPr>
        <p:spPr>
          <a:xfrm>
            <a:off x="8448840" y="6491160"/>
            <a:ext cx="695160" cy="366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5216-4E39-4670-A3E6-B172A7E6E34F}" type="slidenum"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40" y="-14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 Unicode MS"/>
                <a:ea typeface="Arial Unicode MS"/>
              </a:rPr>
              <a:t>02. Eclipse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320400" y="455760"/>
            <a:ext cx="60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The tools checked below are assumed as Eclipse environment</a:t>
            </a:r>
            <a:endParaRPr b="1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67" name="Picture 16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5199120" cy="570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8" name="Text Box 17"/>
          <p:cNvSpPr/>
          <p:nvPr/>
        </p:nvSpPr>
        <p:spPr>
          <a:xfrm>
            <a:off x="810000" y="580536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✔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815040" y="19162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✔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0" name="Rectangle 21"/>
          <p:cNvSpPr/>
          <p:nvPr/>
        </p:nvSpPr>
        <p:spPr>
          <a:xfrm>
            <a:off x="1133640" y="3027240"/>
            <a:ext cx="7203240" cy="581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t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ttp://www.eclipse.org/downloads/</a:t>
            </a:r>
            <a:endParaRPr b="1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1478520" y="2570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✔</a:t>
            </a:r>
            <a:endParaRPr b="1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6T06:19:14Z</dcterms:created>
  <dc:creator>kazzz</dc:creator>
  <dc:description/>
  <dc:language>en-US</dc:language>
  <cp:lastModifiedBy>vollrath</cp:lastModifiedBy>
  <cp:lastPrinted>1998-08-23T05:14:38Z</cp:lastPrinted>
  <dcterms:modified xsi:type="dcterms:W3CDTF">2011-04-15T07:17:07Z</dcterms:modified>
  <cp:revision>3851</cp:revision>
  <dc:subject/>
  <dc:title>Building and Debugging GNU Electric by Java SDK &amp; Eclipse</dc:title>
</cp:coreProperties>
</file>